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5F2437-BA8D-4341-B541-77E3834054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6E475-F787-4513-B09E-D1F01E5235DE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AAA51-CCF4-473D-9CCF-4F4DF207FF02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68C8BB-BC69-44B5-9DA7-60D6D5145D96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DD16F-15A0-46AE-BD26-32BB679CB1DC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173160" y="6165720"/>
            <a:ext cx="1374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3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9923a"/>
          </a:solidFill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581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923a"/>
                </a:solidFill>
                <a:latin typeface="Arial"/>
              </a:rPr>
              <a:t>Grammar and Meaning: Clause Compl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65280" y="5029200"/>
            <a:ext cx="30686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923a"/>
                </a:solidFill>
                <a:latin typeface="Arial"/>
              </a:rPr>
              <a:t>Robert 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view of Clause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ypo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.B. *Embedded (rank shifted) clauses not considered a claus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ordinated Clauses (Para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uses of equal statu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ANBOY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FOR, AND, NOR, BUT, OR, YET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(additive: addition, time sequence, logical sequenc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ant to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(disjunctive: alte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going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staying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(adversative: contra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ik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do not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(consequential, cause and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ve started, so I’ll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53640" y="1600200"/>
            <a:ext cx="7566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lause can be dependent on ano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nant clause (alpha)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 (beta)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eats cak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feels si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 (Hypo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fter, although, if, unless, so that, ther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s seemed long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, summers seemed lo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t Clause versus Rank-shif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 non-defining relative clause is considered 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as bro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brok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ai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no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car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i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 a good 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ereas, a defining relative clause is considered rank shifted and not part of a clause comp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e car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that was 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mod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Predic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 cost him nothing. The other one cost him a lo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r, T. and Bloor, M. (2004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unctional Analysis of English: A Hallidayan Appro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)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LIDAY, M.A.K. (198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 Introduction to Functional Gramm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0:48:00Z</dcterms:created>
  <dc:creator>David Wilson</dc:creator>
  <dc:description/>
  <dc:language>en-US</dc:language>
  <cp:lastModifiedBy>fox rob</cp:lastModifiedBy>
  <dcterms:modified xsi:type="dcterms:W3CDTF">2009-02-26T02:00:33Z</dcterms:modified>
  <cp:revision>29</cp:revision>
  <dc:subject/>
  <dc:title>PowerPoint Presentation</dc:title>
</cp:coreProperties>
</file>