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8FC4-9A7E-4632-9953-B385E78C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D69-263D-42B1-BCD5-5E9FBB0C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216-FEAA-4F27-BC85-2F92A3C3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579-B98D-498E-8D8B-13FACF60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3891-7EB5-4B24-8DB1-2EFAF5A5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B30-8DB8-4353-9D06-4E908B54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0C1-D4E8-444D-BF2F-39A58CA7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7C2-0FF3-43BE-AE90-44984D7D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07E-9718-4877-9F5E-A551FDFC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35B-52A6-433D-9B83-37974C72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B50-3EDD-452A-BF9B-AAA8383A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990-3FC0-4FEF-B8E7-93F36FD7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D853-D828-46E0-8BAD-E29CF0959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ilding a messag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558-EE6D-4322-ABFA-909F76C18B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unctional grammar and word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erals added as a category: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ne, two, three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nouns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, you, he, etc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umed within nouns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ar, sheep, happiness, Pa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711-AC7C-4B55-A448-845BE05AC5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mon 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ble, dog,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pe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rmingham, J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bstract 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uty,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, herself, who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ever, what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, this, that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,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FBD-F8CA-4EB9-8E61-C610B2F816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00"/>
                </a:solidFill>
                <a:latin typeface="Arial"/>
              </a:rPr>
              <a:t>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un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at strang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fe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i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ould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ective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uch happ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erb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now; ver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ositional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f tha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ang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e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B0B-8FD8-4AB9-93FE-E43B58EE8D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L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ndepend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tands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: The shoppers f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pend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vides supportive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: when the fire alarm ra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BD0-F164-4FDC-BEC4-0C931AF8A9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, P(V), O, C,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ddition to grammatical categori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al categori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ubje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edicate (verb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O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Arial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un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2CF-B827-4AA4-8C70-CBB2B18855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ject, Verb, Object, Complement, Adju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 sentence consist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erhaps other elements following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ther elements are necessary to complete the structure of the sentence, they are calle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mple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cluding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object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f they are optional extras, giving circumstantial detail, they are called adjun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ng, David J. (CB)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roducing English Grammar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don, UK: Routledge, 1984. p 71. available: http://site.ebrary.com/lib/aston/Doc?id=10060832&amp;ppg=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1984.  Routledge. 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6DC-1097-4870-9ED7-D593C81D98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977-5D0D-4101-934E-D1FDA8989B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before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60C-A9BC-40A4-A0B5-E177428D8C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before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wall-eyed nurse  came 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 trie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278136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378936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22E-0EAB-4334-A554-0660703969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ten affects the form of the ver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 Gordon  was unlocking  the clo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(P)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 were  glad to let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63700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263700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4221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4221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57B-AA97-472B-94E2-04C7588D08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Parts of Spee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ord Cla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671-9994-4B9D-B02A-AD31D771B6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8F7-C13B-49B1-97F4-0B017E26F1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es after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8EC-F9FA-4A9E-B116-74EDB37706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after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s to a different entity from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 Gordon  was unlocking  the clo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  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unclasped  my watc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335772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35772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494172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494172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195-0AA1-402B-A9B3-D4EC16EAE1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Extrac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wall-eyed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ame bac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ropped it in her po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he started tweaking the hairpins from my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octor Gord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loc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clo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dragged out a table on wheels with a machine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lled it behind the head of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urse started swabbing my temples with a smelly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E86-9660-4E1E-A5B1-E81764CCC0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Identify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Extrac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wall-eyed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ame bac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rop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i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her po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tarted twea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hairp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my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octor Gord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loc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00"/>
                </a:solidFill>
                <a:latin typeface="Arial"/>
              </a:rPr>
              <a:t>the clo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ragged ou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a table on wheels with a machine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roll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i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hind the head of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tarted swabb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temp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ith a smelly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C5C-920C-4CB4-ADB6-8576A540AB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itive cl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uses with both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TRA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cting on or affecting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= ‘doer’ =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 = ‘done-to’ =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Aff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180-DAAA-4694-999D-7CF1730FC5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: Who does what to whom or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ur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I’ [= narr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C0F-39C0-46E8-8CD3-56850E57F2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Who does what to whom or 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ur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‘I’ [= narr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loset;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at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able 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[my watch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els with 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airpi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hine on it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te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[the table on …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056-0A6E-4A1A-9605-701B364357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ERB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redicator) is the essential element in any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clauses also require a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clauses also have a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itiv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r + action + done-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772-F901-4A40-9C94-CEF0CCB911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vs Passive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S(P)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weak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hairp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[from my hair]=S(P)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ss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y watc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S(P)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hairpi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ere tweak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[from my hair]=S(P)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D26-206C-417C-91C6-6E65C12222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NK SC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la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Morphe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50E-9B5E-43A3-891A-CE9320625A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kind of claus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all verbs represent actions done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was  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4E9E-D600-4DF0-B48B-A0376EB44A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kind of claus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all verbs represent actions done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was  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make a passive version of the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l and fresh was been  -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B11-B671-47FA-A526-4C2B5E004EA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required by a small number of verb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A47-8D20-4D24-A83A-A0220598FF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fers to the same entity as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s or evaluates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only a few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l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sick about saying goodbye lik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‘equals sign tes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=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l and fres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be mad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a passive version of the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512-86DF-478D-B491-F54034FA5F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ansitiv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obligatory, the claus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a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ansi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bs can occur without either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they]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train … the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quarrell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bout her not being willing to come home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verbs may be used either transitively or intransitiv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y’s tackl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rok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atson’s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ought my bones woul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6B8-3761-4929-95B3-AF6C86FCE4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hot evening in Padua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rri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hi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 on to the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loo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ut over the top of th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himney swif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a whil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searchligh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me 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oth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oo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 bott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 and 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he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low on the balc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the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ool and fre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ho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9DB-5259-4EA5-8AA3-82334C8D51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70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8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hot evening in Padua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rri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hi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 on to the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loo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ut over the top of th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himney swif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a whil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searchligh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me 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oth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oo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 bott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 and 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he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low on the balc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the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ool and fre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ho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3D7-5199-4586-AC43-AA09F809223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7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80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ank Sc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(or clause com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the place was lifeless, and then two men emerged from the path and came into the opening by the green p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the place was lif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 and then) two men emerged from th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nd) came into the opening by the green p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8D1-C2B8-424F-8C69-B6D16474DC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/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es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men emerge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pa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o the open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the green po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927-3C94-4360-9628-470477F502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P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–l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erge -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145-BD56-43EF-8BC1-E1A2F302DE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a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LET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176-FE66-45F7-A017-407C8768A7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ts of Speech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Word Classes: lexical or full wor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er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FC83-A6A8-48C9-B3D3-0175528EAA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ts of Speec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sed word classes: grammatical or empty w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erminers or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os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j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116-2C5A-4922-BD32-5505F0B463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5:38:30Z</dcterms:created>
  <dc:creator>student</dc:creator>
  <dc:description/>
  <dc:language>en-US</dc:language>
  <cp:lastModifiedBy>fox</cp:lastModifiedBy>
  <dcterms:modified xsi:type="dcterms:W3CDTF">2009-02-12T10:56:25Z</dcterms:modified>
  <cp:revision>8</cp:revision>
  <dc:subject/>
  <dc:title>Parts of Speech and SPOCA</dc:title>
</cp:coreProperties>
</file>