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78B2-692A-44A7-8C5D-D23404F82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F1B2-705C-469A-BDFB-D1B714F08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ECC3-1D24-4D33-A7B4-0EB48F105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BF00-D113-4293-A86C-3280D0977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E0D5-23DB-46CD-8F41-51D1045D4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D1F1-D3E5-44ED-ADD4-E96A9C792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BD8A-3637-4259-9C05-6D51C7988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D3A1-307E-4038-9133-B443F139D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00D2-E609-4B9F-9628-2169235E1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0ACE-DE56-49F0-B3CC-3475FADD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E963-67D3-439C-8655-F9052057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D150-C277-47AC-B2E5-85EE9AB6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456A6-B839-4A5C-95E7-E3C5165553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od and Residue continued…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od adjuncts are related to the finite: express meanings associated with tense, polarity and modalit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eam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obviousl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ing     to have to be repla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ubject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F    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adjunct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Mood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lock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Resid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ul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adjunct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lement </a:t>
            </a: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Mood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lock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Resid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apted from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off Thompson 2004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Introducing Functional Grammar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ndon: Hodder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e als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.Droga &amp; S Humphries 2002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Getting Started with Functional Grammar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SW: Target 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al Adjunc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y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his bac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Subject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Finite </a:t>
            </a: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Predicator </a:t>
            </a: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Adjun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Mood Block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Residue </a:t>
            </a: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times, there are ‘extra items’ between the subject and the finite. E.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ways lying on his 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do you categorise ‘always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extras’ are called Modal Adjunc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re commonl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junctive adjun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adjun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od adjun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junctive adjuncts (sometimes called ‘discourse markers’) signal how a clause fits in with preceding tex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junctive Adjunc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unctuation, on the other hand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oduced faithful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Subject 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8000"/>
                </a:solidFill>
                <a:latin typeface="Arial"/>
              </a:rPr>
              <a:t>(adjunct) </a:t>
            </a:r>
            <a:r>
              <a:rPr b="0" lang="en-GB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cc33"/>
                </a:solidFill>
                <a:latin typeface="Arial"/>
              </a:rPr>
              <a:t>finite </a:t>
            </a:r>
            <a:r>
              <a:rPr b="0" lang="en-GB" sz="20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6600ff"/>
                </a:solidFill>
                <a:latin typeface="Arial"/>
              </a:rPr>
              <a:t>predicato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jun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Mo-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-od Block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6600ff"/>
                </a:solidFill>
                <a:latin typeface="Arial"/>
              </a:rPr>
              <a:t>Residue </a:t>
            </a:r>
            <a:r>
              <a:rPr b="0" lang="en-GB" sz="2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adjuncts typically comment on the clause as a who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ent adjunc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fortunately, this tendency has declin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197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Adjunct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ubject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finite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predicator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Adjun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 o  o   d              b  l  o  c  k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Resid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tendency has, unfortunately,  declin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19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ubject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finite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adjunct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predicator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adjun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 o  o   d              b  l  o  c  k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Resid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7T11:08:19Z</dcterms:created>
  <dc:creator>clarkuil</dc:creator>
  <dc:description/>
  <dc:language>en-US</dc:language>
  <cp:lastModifiedBy>clarkuil</cp:lastModifiedBy>
  <dcterms:modified xsi:type="dcterms:W3CDTF">2008-04-07T13:38:21Z</dcterms:modified>
  <cp:revision>3</cp:revision>
  <dc:subject/>
  <dc:title>Mood and Residue continued…….</dc:title>
</cp:coreProperties>
</file>