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0FE6C-A9CF-460A-A59E-543DFC416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F79D3-F502-4C6E-A5AB-3C44B411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BD35C-B667-4AFA-B155-E7986795B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DD22B-C45A-443B-B6FC-CD228601A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555E-01C9-4451-8F52-954B608F3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D4EAB-1B76-4A5A-B765-3F5AF33D6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C3A93-AC08-4264-86A3-B478E3C8A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A6EE0-CFE0-4A01-A064-3B1CAF162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CAB31-C4FD-4F4E-840D-CDED4EC5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13857-E52B-42E2-BBE2-F4500D049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CF3C-D21E-4950-A04A-8BD30F465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9822-7AF2-4A3C-A2A8-B2720A4DC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E91F-9C2F-4DC6-A178-F5597F9AD592}"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Meaning</a:t>
            </a:r>
            <a:br>
              <a:rPr sz="3600"/>
            </a:br>
            <a:r>
              <a:rPr b="0" lang="en-GB" sz="3600" spc="-1" strike="noStrike">
                <a:solidFill>
                  <a:srgbClr val="000000"/>
                </a:solidFill>
                <a:latin typeface="Calibri"/>
              </a:rPr>
              <a:t>Lecture 1</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tory of grammar, two ph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llennia BC up to 1957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from 1957- presen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7E70-99FC-4E33-BA9D-13D7ECFFF38E}" type="slidenum">
              <a:rPr b="0" lang="en-GB" sz="1200" spc="-1" strike="noStrike">
                <a:solidFill>
                  <a:srgbClr val="898989"/>
                </a:solidFill>
                <a:latin typeface="Garamond"/>
              </a:rPr>
              <a:t>1</a:t>
            </a:fld>
            <a:endParaRPr b="0" lang="en-US" sz="12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as a form based approach finds the answer to explain why language has the features it does in the way our brains are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G,  as a meaning-based approach,  finds the answer in the way in which out social context is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takes linguistics towards biology, SF takes it towards sociology, which means studying the relevant features in the  culture and society that form the context within which language is used.</a:t>
            </a:r>
            <a:endParaRPr b="0" lang="en-US" sz="2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017D-3B3F-4A14-8211-DAAF98641F01}"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 195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umed grammar w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criptive, assumed all languages fundamentally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ucture of all languages the 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ules intended for Latin were transferred and applied to English.</a:t>
            </a:r>
            <a:r>
              <a:rPr b="0" lang="en-US"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4427-FCC9-4203-992B-076D90277724}"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ticular path of knowledge, to be pursued by you, will be of your own choosing; but, as to knowledge connected with books, there is a step to be taken before you can fairly enter upon any path. In the immense field of this kind of knowledge, innumerable are the paths, and Grammar is the gate of entrance to them all...The actions of men proceed from their thoughts. In order to obtain the co-operation, the concurrence, or the consent, of others, we must communicate</a:t>
            </a:r>
            <a:r>
              <a:rPr b="0" lang="en-GB" sz="2800" spc="-1" strike="noStrike">
                <a:solidFill>
                  <a:srgbClr val="000000"/>
                </a:solidFill>
                <a:latin typeface="Calibri"/>
              </a:rPr>
              <a:t>	</a:t>
            </a:r>
            <a:r>
              <a:rPr b="0" lang="en-GB" sz="2800" spc="-1" strike="noStrike">
                <a:solidFill>
                  <a:srgbClr val="000000"/>
                </a:solidFill>
                <a:latin typeface="Calibri"/>
              </a:rPr>
              <a:t>our  thoughts to them. The means of communication are words; and grammar teaches us how to make use of words. (William Cobbett 1818:31) </a:t>
            </a:r>
            <a:endParaRPr b="0" lang="en-US" sz="2800" spc="-1" strike="noStrike">
              <a:solidFill>
                <a:srgbClr val="000000"/>
              </a:solidFill>
              <a:latin typeface="Calibri"/>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EEA6-B0BB-46C5-BC51-69801EC4209E}"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0" name="Rectangle 4"/>
          <p:cNvSpPr/>
          <p:nvPr/>
        </p:nvSpPr>
        <p:spPr>
          <a:xfrm>
            <a:off x="-5141880" y="3245760"/>
            <a:ext cx="5437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he particular path of knowledge, to be pursued</a:t>
            </a:r>
            <a:endParaRPr b="0" lang="en-US" sz="18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am Chomsky (1957).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d how grammar could be studied in a scientific way,  by building completely explicit formal models of grammar generated by language and testing them against ‘the fa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nown as transformative generative gramm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msky proposed the idea of an innate, language acquisition device (LAD).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7C19-DDF7-45DE-8B8A-4024E12FBBEE}"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G concentrates on grammar as FORM rather than MEANING. </a:t>
            </a:r>
            <a:endParaRPr b="0" lang="en-US" sz="3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0E28-D00B-48DA-8B9D-65FB05F89B5C}"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cat sat on the m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ohn is eager to pleas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422B-C823-4414-9BE7-4FB6EA75154C}"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late 1960s and early 1970s the British linguist Michael  Halliday published his work on functional grammar.  </a:t>
            </a:r>
            <a:endParaRPr b="0" lang="en-US" sz="32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F4B1-82E8-4248-88BC-F56ACD40ADB8}"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F196-4179-40C3-BB4C-F7DE55A380E0}"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pic>
        <p:nvPicPr>
          <p:cNvPr id="66" name="Picture 4" descr="lakes06 00022"/>
          <p:cNvPicPr/>
          <p:nvPr/>
        </p:nvPicPr>
        <p:blipFill>
          <a:blip r:embed="rId2"/>
          <a:stretch/>
        </p:blipFill>
        <p:spPr>
          <a:xfrm>
            <a:off x="-3048120" y="-2286000"/>
            <a:ext cx="15240240" cy="1143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common to every use of language is that it is meaningful, contextualised, and in the broadest sense social....The child is surrounded by language, but not in the form of grammars and dictionaries, or of randomly chosen words and sentences, or of undirected monologue. What he encounters is ‘text’ or language in use; sequences of language articulated each within itself and with the situation in which it occurs....The child’s awareness of language cannot be isolated from his awareness of language function, and this conceptual unity offers a useful vantage point from which language may be seen in a perspective that is educationally relevant. (Michael Halliday, 1973: 20)</a:t>
            </a:r>
            <a:endParaRPr b="0" lang="en-US" sz="24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C2BE-0AF5-4528-8B3D-A1415F32550A}"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6:45:39Z</dcterms:created>
  <dc:creator>student</dc:creator>
  <dc:description/>
  <dc:language>en-US</dc:language>
  <cp:lastModifiedBy>Fox</cp:lastModifiedBy>
  <dcterms:modified xsi:type="dcterms:W3CDTF">2010-01-27T10:30:29Z</dcterms:modified>
  <cp:revision>7</cp:revision>
  <dc:subject/>
  <dc:title>Slide 1</dc:title>
</cp:coreProperties>
</file>