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24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F36-04CB-4789-8A38-AA61B47E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43B-2C62-4484-A719-96FD7B41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914-7440-414A-85C0-9C79644B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D0C-1A7D-4654-A074-2DEE1C1E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E54-A600-4FF0-8794-9447B361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7A0-E088-4C57-A422-A7D4B2F1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C75-6352-473A-9550-DB6053BE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341-AC8B-4F85-A7AC-1B3D6A77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A72-0C35-46A2-B783-0225CE0C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713-7BC0-4950-AAD4-ABE092E2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0B3-D9E9-4D57-9C29-876F472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CD7-30A4-416E-893A-F97E405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E970-8FED-4F96-B671-A9A6ACF779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ree kinds of mean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component is the part where we describe the options that we have in expressing interperson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component expresses experienti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component describes options in expressing textual mea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9FC7-3CE6-4C65-873E-B975D8E26FB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mponent has its own system of cho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884B-CEB7-468F-8AFC-2E9718A5EB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personal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ogative meanings (ques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ative meanings   (statemen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erative meanings (command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7D28-416F-4E68-B170-85368897FC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, to ask a question, an interrogative meaning, this will typically result in the structure Finite ^ Subject: have you?  (^ means followed b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clarative meaning, Subject ^ Finite ‘You have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1F8F-CCC4-434A-8B77-50419659C2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experiential perspectiv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Shocked Shilpa Shetty 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ACTOR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ull footage of her orde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full foot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A286-C8BF-436C-ABF0-CA89152471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interpersonal perspective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cked Shilpa Shetty yester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V/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 of her orde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ADJU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889F-7514-4672-BCBE-21536BC2D3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 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P/V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2220-6A69-4D76-8606-15491B36D8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sis from the textual perspecti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hocked Shilpa Shet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w the full footage of her orde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The full footage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8B90-3E04-4931-889D-04CEEAE316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is a system of choic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hoice, however unconsciou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es something to the meaning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aid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52DC-30CE-451D-8447-6C3B2BBBE4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gister and Genr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s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variation according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ab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involved in the communication and their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66AA-3594-4623-B06C-1EA541BE15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fun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AA43-2FFF-43FC-9AD7-C45970576E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or written about) is determined and  reflected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 meanings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A495-734D-4DE6-B203-38AB6C7646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o is involved and their relationship) is determined and reflected i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mean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lationship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9DAE-5D4F-4B17-B0C9-47A632975C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) is determin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 mean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D621-962E-49B4-ABDD-4965FE9D1B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r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 plus purpo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F5FB-D413-4F50-93A8-5382B03056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LPA:MY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  my God…I had no idea it was so ba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cked Shilpa Shetty yesterday saw the full footage of her ordeal at the hands of racist bullies Jade, Jo and Danielle for the first time- and gasped: ‘I’d no idea it was so bad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31-year old Bollywood beauty watched the three bullies spitting out cruel taunts and foul-mouthed insults behind her back, she said; ‘I didn’t know all that had gone on. They are so mean. Why didn’t somebody stop them? It hurts me deeply. Look at me…I’m still shaking.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iling Shilpa had still been on a high from her Celebrity Big Brother triumph as she sat down to watch the videos yester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3350-83AB-419F-BD8A-DC715030B7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our experiences, including imaginary o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events and/or  states, and the entities involved in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65C3-3E5B-4912-BF44-CC9CA973D9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 with other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and maintain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ce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our own point of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cit or change the point of view of oth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24B3-CF06-4A3A-B8DC-C9734B216C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organize messages in ways that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ey fit in with others and the wider context in which we are talking or wri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0F9D-3484-47C0-8BE6-3216385080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lpa: My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 my God…I had no idea it was so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, Harry, you HAVE grow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5CBB-B182-4BCB-9F21-90E922F7E9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function of the Shilpa Shetty story is  to talk about her reaction to the ‘Big Brother’ footage, once she has seen it for the first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Harry story, it is a reporter’s views on Daniel Radcliffe appearing naked in a West End play Equ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F406-5381-4405-B370-D3554B7831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function of both  is to interact with the paper’s readers, to express points of view (Shilpa’s and the journalist’s) and, in the Shilpa story, to influence behavio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6175-2209-4407-9240-B59A0E6E6B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function of both is to present the information conforming  to the conventions of newspaper reporting, and those associated with tabloid newspaper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print headlin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l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ning o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0C71-6DCE-4B55-8C64-EBB7BF3A31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1:36:34Z</dcterms:created>
  <dc:creator>student</dc:creator>
  <dc:description/>
  <dc:language>en-US</dc:language>
  <cp:lastModifiedBy>Fox</cp:lastModifiedBy>
  <dcterms:modified xsi:type="dcterms:W3CDTF">2010-01-27T10:30:02Z</dcterms:modified>
  <cp:revision>9</cp:revision>
  <dc:subject/>
  <dc:title>Three kinds of meaning </dc:title>
</cp:coreProperties>
</file>