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C1E-92FB-4A87-8557-64FED52B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669-2DEB-4898-8C1B-97CFD1F2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11B-94F0-48E3-A9D6-8DE95ECE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3D3-4481-4C52-9103-7EDEC9F2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33A-9884-4DEA-B46C-6B6D8167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59B-4A57-4289-9203-8985F5F3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431-1D8A-475A-BF14-B6F95EF3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BD8-4EC3-484E-A2E1-EE3B4709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8DA-7020-4B61-AE16-6666CCE2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B88-730F-4ABD-A24B-38E0E2E2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74B-0CAB-4233-AF59-653A0801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E34-7754-48BD-9086-664447EC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CA97-9D5A-4C12-9D28-88DF55DAE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rases and Clau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ast word of the phrase is the MAIN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ds that precede, come before, the main verb are AUXILLIARIES or AUXILLIARY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has been </a:t>
            </a: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cooking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;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crawling;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has </a:t>
            </a: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n expression lik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erb phrase is incomplete and said to be ELLIPTIC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 (b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(had)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is birthday)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00"/>
                </a:solidFill>
                <a:latin typeface="Arial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ay; might; can; could; will; would; shall; should; must; ought;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y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can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ight arriv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omor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ust have lost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my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Finite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disappearing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omebody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speaks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few minutes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peaking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few minutes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entioned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Mentioning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…….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to the difference is to do with an important distinction within the functioning of langu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Finite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 can function independently as communications with an adressee (ie, telling us somethi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 declarative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d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do not distinguish between telling and 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disappearing….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distinguish between telling and 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Finite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have a subject and a verb;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need not have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say ‘every chair’ but not ‘every hot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noun phr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oun head may have a determiner, while adjective heads cannot have a determi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ds modifying the adjective are called INTENS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say ‘terribly hot’ but not terribly chair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fi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ome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Terribl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har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difficul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ho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Noun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ressions in which nouns form the principal or main element (e.g. a chair, the university, my car) are 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oun phr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 can be plural; while adjectives cannot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The men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990099"/>
                </a:solidFill>
                <a:latin typeface="Arial"/>
              </a:rPr>
              <a:t>hungrie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*not possible as a sentenc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The men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sic sentence patter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last tra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has arri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( C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Your uncle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left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a message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last train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has arrived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lready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( C 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Your uncle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left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a message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yesterday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counsellors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seem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very determine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is week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s work is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keep th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n is se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jury found her innocent after two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might send me an inv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bordination and co-ordin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IMPLE sentence consists of one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uses can be combined to make COMPLEX sentences: ie, sentences with more than one cl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ways in which clauses in simple sentences can be combi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-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-ord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-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clause equ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. The man shot his horse (and) (he) took the carcass to the glue fa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h clauses equal sta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b-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clause is involved within the structure  of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The gir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who was drinking a glass of wine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e a red dres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Noun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ain element of the phrase is the noun, called the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an be preceded by a subsidiary element called the MODIF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ifiers often determ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types of modifier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ectives –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is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larg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ouse; a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cruel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eception;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valuable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 – so that a phrase may have two nouns, one acting as the head and the other as a modifier –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an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education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policy; th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hous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plans;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furnitur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catalog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 Mod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 phrases can also have modifying elements coming after the head: called Post-modifi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men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outsid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peopl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exclu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noun phrase begins with a preposition, then it is known as a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E.g. By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he dog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to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your employer;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with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hose cow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ve two eleme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INITIATING element: ie, the preposition itself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OMPL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occur or come after the head of a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oun phrase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n as post-modifiers of the head.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letter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o your employer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administration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f the schools.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Verb phr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‘verb’ element in a clause need not necessarily be just a single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made up of several verb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as been cook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were crawl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as disappea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1:05:27Z</dcterms:created>
  <dc:creator>student</dc:creator>
  <dc:description/>
  <dc:language>en-US</dc:language>
  <cp:lastModifiedBy>foxra</cp:lastModifiedBy>
  <dcterms:modified xsi:type="dcterms:W3CDTF">2009-02-17T16:25:43Z</dcterms:modified>
  <cp:revision>7</cp:revision>
  <dc:subject/>
  <dc:title>Phrases and Clauses </dc:title>
</cp:coreProperties>
</file>