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4DD3-F3EB-4D27-A81D-5D67369D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6EB7-D40B-4DBF-A01D-4026AA65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873-CB1D-481D-AEEC-A462F70C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E21-BAFB-481A-BB6C-197EC7B0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7926-CA46-49F6-8500-366D10A9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72BB-C2EB-4D59-B111-A6975DE2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D3F3-F9C3-4AE6-B040-D3A2DE9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519D-E9F1-4868-9CA0-FE94B49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CC23-F363-4AB9-9EFD-FFAE3ACE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36D0-9C6B-43EB-AAE8-AADEF51F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3AED-1014-43A9-8C16-33E7D991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937-AC74-4E0B-956E-FAEC8F1C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A4B9-1000-41B3-A9DD-DDD22D7A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A230-1728-4653-97CC-ED8CEE38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79D3-3396-4362-A386-B51BA156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F66-783A-4C65-86CD-1525E8B5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034C-1ABA-420B-B29C-2A023682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B97-9AB5-4411-A765-7469ED0F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6D3-D4AC-4903-ADC8-3F057F70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1E9-A567-44C8-89D6-CDCA5949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D3B-2160-48CA-8999-36B56509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BFE-CEFA-4B25-B139-B252D229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3ED-1183-4FCE-B9D0-6DBAFCD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7EF-AFE5-4101-A56B-136DEB6B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972B-FC9C-4778-BFD3-D9CECAF763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F72D-C525-48BC-A72C-B6AFAAC2A6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cri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s should be as detailed as is necess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nly transcribe the sections you feel are necessary to your discuss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General ru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umber the lines if the section i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dicate who is speak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‘tidy up’ the transcript, say how you have done th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can’t hear, write (inaudible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tion Research topic: teaching grammar using a C-R approa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llect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’ 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recor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ry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tor’s feedback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ers’ feed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How will you integrate this into your assig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-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, participants,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C-R liter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es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feedback/Peer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of spoken da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kind of data is availabl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rded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ary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s’ lo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bservers’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eld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 analysis and co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ook for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repeated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anguage or ideas in the texts that you hav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coloured pens, index cards or another system to code the respo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Your codes can either be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‘a priori’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you decide on these before you start to code) or they can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emerg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om the da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naires are likely to have a priori categories for closed questions; fieldnotes, diaries, tapescripts are likely to have a mixture of bo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lysis of Spoken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Coding system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e.g. 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Types o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  e.g. questions (open vs closed; genuine vs display; lower order vs higher order) or answers (one word; medium turns; long turn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Quality of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.g teacher talk; student talk; explanations (vocabulary/grammar); instructions; teacher-student interaction; checking understan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Amount of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talk/teacher talk; whole class work/pair work/group work/individual work; wait time; thinking time; working with students’ answers (dialogic talk); silence; one student speaking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tool used in qualitative research to help ensure validity (that the research is of good quality and acceptable.  Internal validity: that the claims made are trustworthy; external validity: how generalisable are our claims).                         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searchers elicit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multiple perspectiv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n the situation being studi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data for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lk is designed to be heard, not read, so never move straight from recording to transcribing: always take time to listen carefull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18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listen to the tape you’ve made, your first reaction will be, ‘Nothing’s happening’.  In my experience, this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case when someone new to analysis listens to a tape for the first time…..listen to your tape over and over and over again …until you find part of the lesson where something interesting is happening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 18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7-11-29T09:47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