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1CCC-CBB0-4833-8B5A-193BE14C8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D4FD-C939-4279-921D-F9AE3EB7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7F3B-42B2-47A3-85EE-854E5EC44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39B5-85C3-436A-BC9C-146820A7C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78F2-456C-44C9-8AD4-9C9BA5D41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73E1-6FA5-4757-B257-F90B5E06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9262-4C02-44A6-B9BC-0B89552D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B061-81AE-4184-8822-65083186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AD7C-E4D7-4C0E-B221-210D0ED1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4B6D-1FBB-4A67-AADB-8D27BD55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A02C-6127-415C-9F42-4CB92BED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3172-791E-4DB7-B3CC-70DB9514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48C7-010D-4FF8-B0D1-CE00FD8D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47FC-A793-4425-817F-76243E74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262A-5B3D-4FF5-BDD4-353BC186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6432-CCF0-41DA-9099-2F1FF02A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BC0B-1D08-471A-8A50-169684DE8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6A48-3352-4F18-8FD5-4EBE5598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4623-E3E9-49B0-8AD7-DE93295A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0E87-F8FD-4D3C-A10A-5A0400C1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796E-34D5-4F0A-8BD1-0E57D9B3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04BF-EED2-4C83-B9CB-EEB90080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C316-0719-48C6-B47F-1AE4DCE8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C45E-4E3E-4FDA-A813-49D9A44E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AAD0-8F49-443A-97BA-792B1B76D5B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7F54-73E6-4DA0-8563-58B7AB72ADE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eveloping Reading Skill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pproaches to Learning and Teaching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s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ok at the text agai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rite some first stage questions to develop scanning skill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rite some second stage questions which include: comprehension, interpretation, evaluation and personal respons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rite some third stage questions to develop vocabular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st rea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st reading activities go beyond the text to encourage students to make connections between what they have read and their own experiences and to other areas of learning English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st reading activities might include a discussion, a task, a writing activity, a role-play – pretty much anything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s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Design a post-reading task for the languages text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nderlying princip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ading approach should match reading purpos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re is a difference between a reading text used to present new grammar and vocabulary and one used to develop reading skill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rners do not need to understand every word to get the meaning of a text, but they do need understand a lot of word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phisticated readers transfer reading skills from one language to another; less sophisticated readers may no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Key Vocabularl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cc"/>
                </a:solidFill>
                <a:latin typeface="Arial"/>
              </a:rPr>
              <a:t>Skimming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– for gis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cc"/>
                </a:solidFill>
                <a:latin typeface="Arial"/>
              </a:rPr>
              <a:t>Scanning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 - for particular pieces of inform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cc"/>
                </a:solidFill>
                <a:latin typeface="Arial"/>
              </a:rPr>
              <a:t>Intensive reading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– reading closely to find out as much as possi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cc"/>
                </a:solidFill>
                <a:latin typeface="Arial"/>
              </a:rPr>
              <a:t>Extensive reading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– reading broadly for general interest or fu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cc"/>
                </a:solidFill>
                <a:latin typeface="Arial"/>
              </a:rPr>
              <a:t>Schemata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– information an individual stores which can be drawn upon to understand texts (Schema Theory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cc"/>
                </a:solidFill>
                <a:latin typeface="Arial"/>
              </a:rPr>
              <a:t>Top down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– reading holistically, using prediction, schemata and genre (amongst other things) to understand the tex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cc"/>
                </a:solidFill>
                <a:latin typeface="Arial"/>
              </a:rPr>
              <a:t>Bottom up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– understanding each word, sentence, paragraph so that the text is understoo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aching a reading skills less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ecide on the reading purpo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ecide what skill(s) you are trying to impro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ink about activating learners’ schem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member that if the text is too difficult, learners will strugg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ink about introducing top down and bottom up activiti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sson Flo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ding skills lessons are often divided into the following stag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-rea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le-rea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st-read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-rea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urpos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lead learners into the tex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motivate them to read 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provide a context for the rea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reduce anxiety about the tex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5105520"/>
            <a:ext cx="7924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You might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w the title/headline and ask for predictions of text cont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icit what learners know about the theme/topic (brainstorm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w some pictures and ask the learners to guess what order they go in in the text or ask students to predict the sto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-teach difficult vocabula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ive an outline of the text or some useful information about i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s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are going to use the text with an intermediate class to practice scanning skill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pre-reading activities would you se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ile rea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1760" y="2362320"/>
            <a:ext cx="7769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tivities for while reading are usually in three stages:  activities to encourage students to get an overall understanding of the text; those which encourage students to work out more detailed meanings; and those which focus on particular grammar or vocabular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rst stage questions might include skimming or scanning question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stage questions might include comprehension questions, questions of interpretation, evaluation and personal respons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stage questions might include finding synonyms, looking at grammatical patterns, identifying discourse marker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ucation Staff</cp:lastModifiedBy>
  <dcterms:modified xsi:type="dcterms:W3CDTF">2008-11-10T12:21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