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EA0-552A-4229-8D7F-511E62C3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8D3-E480-421C-982D-8768ECF1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0170-82B9-4572-B9E1-00C163D1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13F-C3B6-4C4F-BCD0-EE5F59CF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45A4-1154-471C-8DB4-41F9E780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B58C-ADB3-4DD5-8DB9-0A7C88EB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18BF-07F9-4EAA-B567-FCC7EDFA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9063-E7B5-47E2-B342-4B97A14B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05D1-543E-428D-9F00-9E80BBA1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CE7F-74BD-41E1-96DB-35843BB7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10D4-25F2-47DD-A588-8D39AD6F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2F71-AFDA-4246-8F22-B929BEA1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AB1B-8689-4764-84C9-4635DBBB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4DB4-826D-4985-8234-936E7E0B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A933-5C16-47D9-BA8C-95B85F82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A3BD-6E68-485E-BC05-E0424414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BD21-573F-42E8-944D-151D4E08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842-7C32-4E79-A20B-8A3063B4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545-1DDC-4849-8981-62D84FAB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991-D9D5-4B85-ADF2-36C45EBA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5E6-DD23-4641-8FFB-E580F602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5106-A214-4EDE-9795-B6A5253A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0BF-0DD9-48AB-A2C4-D51AC44E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C05-8FED-49E9-96B5-5D7A9BCA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8D61-B4AC-4F72-8104-E1FAD6D356E5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6D4F-7DB6-425E-A477-E7FD623C15F3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Classroom Tal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alsh (200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control the topic of discus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often control both content and proced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control who may participate and w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tudents take their cues from the teac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ask questions to which they know the answer most of th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talk most of th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modify their talk to learn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are responsible for managing the interaction that occu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eachers’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onologic (recitation) vs. dialogic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Monologic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ing leads to an ‘authoritative discourse’ in which the teacher delivers a set of pre-packaged knowledge (Skidmore, 200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Dialogic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ing offers an ‘emancipatory alternative’ (Lyle, 1998) so that knowledge is co-constructed and students’ experiences and interpretations are valued and explo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onolog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R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er sel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er ignores attempts by learners to introduce other top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udents’ responses tend to be sh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ually there is only one correct ans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Nystrand, 199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xamples of IR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’s the boy do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e’s climbing a tre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e’s climbing a tree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’ moves in natural convers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rancis and Hunston (1992) classify f move in terms of function e.g. ‘terminating’ or ‘endorsing’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are yo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gre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ver mi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alog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urns are evenly distributed between speak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eacher takes fewer tur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RF not the mo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udent responses build on previous students’ responses (‘chained’ Gutierrez, 199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udents self-sel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eacher and students negotiate sub-topics for discu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Questions exist for which there are no pre-specified correct answ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(Nystrand, 2007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nalysing Classroom Discour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dentify IRF pat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What kinds of questions does the teacher as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Who controls the tal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onologic or dialogic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omment on the quality of the teacher’s tal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ul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ullen lists 5 effective feedback mov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Reform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Elabo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Com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Repet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Responsiven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Arial"/>
              </a:rPr>
              <a:t>What does each mean and do you agree it is effectiv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planfm</cp:lastModifiedBy>
  <dcterms:modified xsi:type="dcterms:W3CDTF">2009-11-12T13:40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