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F6F-472C-4B72-AA30-050DDAAD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3E2-A3FD-4FA4-832E-0E2D0112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56E-8846-4286-9A18-4BDE390E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C46-0F3A-49CC-A8FF-7FAB75A2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2988-4DDB-426D-A9D2-86E75E6C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E06F-AEC1-42DF-85C0-CA295A55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CE8-4281-47F2-AE3E-85B5ED7D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D118-E09E-4EF3-B555-A577C175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B4D6-9AC6-4BF9-84D7-9B337720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9657-E496-4737-AB4E-936FF6EF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0436-033D-46FD-9ED2-B4F851F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D86-23C3-4E5F-9616-91708F27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15DA-EAAE-4452-B3EF-B504D977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1F39-ECCC-4923-AE39-37539504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166C-D0FE-40BD-BA2B-621D87A3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0BA2-8414-4EEA-B8C5-47C7B804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61A9-9566-47D3-9B5D-CAF0CED9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B74-2D85-4CAB-ADC2-B48B8634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915-72E3-4B94-95BA-88C52AD0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A0D-8BAA-4D9D-863E-57DC92E8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AF0-EDBA-4C18-8CCF-2C830FC7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769-625E-49F5-BD27-FE6438FE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8DA-C2D9-400B-832B-51F33D06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789-DA03-4004-970F-F46D70E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E5E3-8262-4D14-9CA5-365AF86133B4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FBAD-E740-4E5C-9601-4A071541974B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unicative Language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Showcard Gothic"/>
              </a:rPr>
              <a:t>Okan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stut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ohii         Y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 9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2492280"/>
            <a:ext cx="58168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ima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ets of C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nguage rather than on knowing about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is presented in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put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language rather than on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takes are welcomed and not always corr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hent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als are int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r and group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 skills and four syst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EL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Grammar trans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grammar an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written texts chosen because they present particular grammatical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accurac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s use learners’ L1 to deliver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do exercises rather than tasks and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will often be preparing for a test rather than to use the language to communic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Still prevalent in many classrooms throughout the worl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o-lingual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ived from Skinner’s theories of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haviou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US army (Korean w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in L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lling, accuracy, correct pronunciation, question/response, oral before written, ‘over-learn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-based tea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are taught through the target language (e.g. histo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meaning and communication rather than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hours of exp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rovides meaningful and comprehensible inp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Much ‘bilingual’ teaching follows this approa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nge methods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ilent W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ggestopedia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Small class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Language Learning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Must know L1 and 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Physical Response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Young Lear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P/E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Method’ 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imply in terms of choosing teaching approac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Brown suggest is more useful than ‘methods’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39840"/>
            <a:ext cx="9144000" cy="80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6040" y="1206360"/>
            <a:ext cx="62168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662120"/>
            <a:ext cx="4968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62040" y="2362320"/>
            <a:ext cx="4445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6400" y="2760840"/>
          <a:ext cx="541656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60840"/>
                    <a:ext cx="54165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1-25T08:30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