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527-F1DE-40F1-A78A-467426CA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279-8523-4FF0-8E76-E37BA5CC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F99-E64A-414F-BD4B-39BBAC35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603-298E-4728-8E80-C37E0F54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BD96-D22F-419A-9B0A-79E8BADF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A783-7F28-46C6-BC2F-B0A7E44D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143E-109C-4D81-A85C-1CDDC1C3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B181-14BD-481A-9774-4D090238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DE9C-8283-42E9-984F-A0C155DA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F685-8637-4EAA-A702-AA27ED40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B4DD-D19C-4114-B32D-F168D07B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6F4-8618-400E-9143-23753508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6F7F-D3B1-48AF-96DA-944BD5D6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A13D-6975-46CB-AFF1-1C198CF6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7331-6C0E-4A15-A494-DCCF55B5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BCD1-61D2-4BA6-8454-B85B160D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61E7-4086-47FA-8B62-CD8A553A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AE5-DCEE-4D57-8871-84664A76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701-B714-4187-B7C8-1BC1094A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8D9-F5D7-4390-BC07-9BB841DD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2D2-3885-464D-B89A-69DAE972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D6F-0C56-405A-856C-4C625454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DB9-53D8-42C4-B8C9-05D83F7A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547-7144-49B5-8617-BD8E2284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C408-12EE-401B-ABBB-A525A723CC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3CEC-B508-4F87-BAC8-4D7BE63423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lingualis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urrent debates/issues in bilingualis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dels’ are linked to ‘outcomes’, but whose interests do these outcomes ser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 education systems cope with the increasing move towards globalisation and the changing ‘ethnoscapes’ (Appadural, 1990, cited in Martin-Jones,2007:176) of cities and countri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are children best supported in schools and other educational institu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rom your reading and other sources, can you define these term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imultaneous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quential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btr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lt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n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y 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ilingualism – control over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imultaneous bilingualism – acquiring two languages 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quential bilingualism – learning one language after the first has been ac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tractive bilingualism – when neither language is fully learnt (does this exist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ultilingualism – control over more than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nolingualism – control over on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British socie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global term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factors influence bilinguals’ choices of which language to u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 people become bilingua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/higher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e to a differe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ner speaks a different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requir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nging up children bilingual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Read the following problems/scenarios and with your group decide on the best answer/respon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a new language in sch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ls’ of bilingual educ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immersion (e.g. Canad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eparation (monolingual spac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urrent language (code switch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upport in L1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bilingual education programme in Tex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fore you re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percentage of people in Texas use Spanish as their first language, do you think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r child or sibling went to school in Texas, what language would you like him/her to be schooled i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you think it would be acceptable for children to receive their education only in Spanish in Tex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model of bilingual education has Texa traditionally u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the new model of bilingual educat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criticisms of the traditional model, according to the articl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advantages of the new model, according to the articl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your opinion on which model should be adopted?  Do you know which model is current in UK schoo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1-17T15:24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