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A425-943F-479A-B963-60ADE4FFF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792A-1E1C-4040-91CA-78AA39A02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784E-E652-4313-89F3-65394B240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5D06-052F-49AD-97C2-FEE7BE3D3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7F9F6-8A35-41D6-9989-4F5389296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C4FA9-19CD-49B8-AF17-FF3668D2F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FE883-5E85-4A26-957C-BE798354A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53B16-81B5-4779-9D40-5B722E9A2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E88A4-B87A-4632-B43C-E7B6BE1A1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69485-D3EC-47F4-BA70-2209211EB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D0088-8EA3-4C86-9040-9EF155464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5088-D2F8-48AD-A5CA-310A27F7C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27BE7-752F-430A-95C5-872F18B52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5BD3A-1927-4A63-A45C-6E03A1B14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8EB34-8511-42C3-BC53-D6C83898B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01DC3-7E4A-45F2-8881-CA2C69EED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F64DB-7EBF-4F88-BCDD-038575948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6EB1-7734-43D0-8A52-F8569B6D1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62AD-DBDC-44A9-A7E4-E31DAAF48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1AE3-7CB2-487C-B6C2-6D8A6EC6A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0A96-48A5-421B-8A80-87521EF59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8AB4-1A02-49B9-9CD1-91898F2BF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C70B-8791-4A45-910F-05701BB82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CF0A-FD99-4748-84E3-62B81453A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CF56B-4980-4641-BDD9-0423EF3CC8E3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4C7BB-5DEF-4CC3-A218-85120E761A5C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The assignment revisited: interviewing and troubleshooting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Learning English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asic Interviewing Skill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Ensure the interviewee is comfortabl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Explain the purpose of the study  and give assurance of confidentialit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sk permission to recor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sk a series of ‘easy’ questions to start with (e.g. where are you from/how long have you been in England/at Aston?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Give the interviewee time to answer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on’t talk over the interviewe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nk about the kind of questions you ask (open/closed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e interested in the interviewee’s answers and respond to thes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n interview is a social encounter: demonstrate interest in the interviewee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ifferent kinds of interview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p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mi-structur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tructur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emi-structured interview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terviewer has a list of topics or questions to be cover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terviewer can ask other questions not on the list or can ‘probe’ to get an expanded response e.g. a follow up question, a period of silence, back channell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interview can go ‘off track’ for some tim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at is a ‘case study’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761760" y="2361960"/>
            <a:ext cx="7769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‘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evelopment of detailed, intensive knowledge about a single ‘case’, or of a small number of related cases’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(Robson 2002:89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‘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Individual case study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Detailed account of one person.  Tends to focus on antecedents, contextual factors, perceptions and attitudes preceding a known outcome (e.g. drug use; immigrant status).  Used to explore possible causes, determinants, factors, processes, experiences etc., contributing to the outcome.’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                             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(Robson 2002:181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obson C. 2002.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Real World Research.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003366"/>
                </a:solidFill>
                <a:latin typeface="Arial"/>
              </a:rPr>
              <a:t>nd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Edition. Oxford: Blackwel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at to include in a Case Stud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Overview: why the cs is taking place; the issues being investigated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Procedures: how data were collected including access arrangements, resources available, schedule of meetings and so on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Report: divide into sections, for example –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educational and cultural background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purpose for studying English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experience of language learning in UK and at home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language learning preference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literacy in different language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attitude to English and its place in the world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attitudes to his/her bilingualism/multilingualism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        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recommendations (about how learner can develop his/her English with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reference to skills and systems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Reference list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Appendix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ow to do wel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se the interview data/learner’s work to illustrate your poin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se the academic literature to develop your argument/substantiate a clai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rite clearly but formall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fer to reading/discussions from the module, where releva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se the learner’s output to inform your recommendations for improvement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ther considerat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member, you need ethics approval BEFORE starting your research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nk about how to ensure your learner remains anonymou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clude a copy of your questions in the appendix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Jalal – Case Stud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What information does this case study offer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Comment on the style of writin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Why is the quotation included in ‘present situation’, do you think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Who are the ‘Points to Consider’ written for, do you think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SA</cp:lastModifiedBy>
  <dcterms:modified xsi:type="dcterms:W3CDTF">2008-12-08T17:58:44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