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334C-7BAF-47CD-B446-720BE88E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099-FF2C-4A92-B57F-FFBA7BE4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C51-92DD-4E83-97F8-7B7A131F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E3A4-0DAA-448A-95F7-5CB8B103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3737-BA37-436B-A3E1-851074B4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C70D-FE0E-4609-BB47-DD457307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5CD7-017C-4FCC-845D-6B0EA59B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03B9-7E30-43AF-8B71-4505CD40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F31B-9DA9-4069-AAAA-6CA82C7E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149F-F05B-4873-9666-8CCFDD4A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3BBE-73A0-447A-9A45-D40522BF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2EF6-8BD6-4F1A-9C7D-2579FB4F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D10B-8075-43E1-B29F-E1D01D87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718F-CA0D-47B8-8A77-E49CDDB1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2AB9-A7EC-4DAC-B174-888E7D2B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5E69-8E19-46C2-B97D-EFB55BC8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7173-FA07-4258-9775-0A5AFB26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A3D-B77F-4033-8CE3-1A732C52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1A2-2917-4C2F-B8E3-21536B5C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5B7-B635-42F1-9EA1-4222AB00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4105-2645-4BB4-B78D-7599C2D9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13AD-E2C1-4500-B3D0-750AE72F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D10-2248-43D9-AD78-2A23E63E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66EF-AB7E-4AC1-9A5E-D1CD1769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DF1A-EDA1-47B9-AF30-566E76B2C22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A5F9-0882-44F3-BEB3-BC36D4B3AC7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fferentiation: a workshop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ona Coplan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f.m.copland@aston.ac.uk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on and learning pre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lack of variety doesn’t help.  I find that quite a barrier.  The fact that the class always starts in the same way means I switch off mentally – oh no, not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tha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again! Generally I am someone who needs a lot of variety.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lara, student at Brasshou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248520" y="4648320"/>
            <a:ext cx="1288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 kinds of learning preference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ual, aural, kinaesthe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ytical/holis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ole class/group/pair/individ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insically motivated/extrinsically motiva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Your pract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o you use differentiated questioning in your practice? Please explain your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o you use other kinds of differentia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Outcom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icipants will develop knowledge and understanding of the concept of different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rticipants will apply this knowledge and understanding to developing resour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rticipants will share their differentiation practi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tion: a defin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fferentiation is adopting different strategies that ensure success in learning for all, by accommodating individual differences of any kind.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tty G. (2004)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eaching Toda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Cheltenham/Nelson Thor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hen can we differentiate according to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utside interests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Show and te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rgeted language for particular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one student a week?)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 wo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can we differentiate according to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ducational backgroun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hare educational experien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 What students like/don’t like about lear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  Cater for students who have formal    understanding of language/don’t have formal understanding of langua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tion according to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lev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watch the talk and complete the worksheet by adding verbs in the imperat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write in the words from c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fill in the words independent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ng according to level – key facto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extension tasks for those students who finish quick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sure that the first questions/activities are easily completed by all stud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use of questioning.  Are your questions meant to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halleng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to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stil confiden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ich is the most difficult question to answer?  Put in order, simplest first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you ma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124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39625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difference between a scone and a bisc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029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ngredients do you need to ma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on and learning pre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teacher would do most of the talking and when we needed to practise something, she would go round the whole group one person at a time.  If there was a dialogue, she would take the other part….The whole thing would take about twenty minutes and you only got your 3 minutes of glory.  I found that quite boring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hoebe, student at Brasshou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553080" y="5105520"/>
            <a:ext cx="183060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7-11-23T10:55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-5262230</vt:r8>
  </property>
  <property fmtid="{D5CDD505-2E9C-101B-9397-08002B2CF9AE}" pid="4" name="_AuthorEmail">
    <vt:lpwstr>f.m.copland@aston.ac.uk</vt:lpwstr>
  </property>
  <property fmtid="{D5CDD505-2E9C-101B-9397-08002B2CF9AE}" pid="5" name="_AuthorEmailDisplayName">
    <vt:lpwstr>Copland, Fiona</vt:lpwstr>
  </property>
  <property fmtid="{D5CDD505-2E9C-101B-9397-08002B2CF9AE}" pid="6" name="_EmailSubject">
    <vt:lpwstr>Two more?</vt:lpwstr>
  </property>
  <property fmtid="{D5CDD505-2E9C-101B-9397-08002B2CF9AE}" pid="7" name="_NewReviewCycle">
    <vt:lpwstr/>
  </property>
</Properties>
</file>