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C63-11DF-428C-A08C-A874DFE6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758-1DA1-4092-A993-EA14D746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6E7-18C0-4120-B5E8-8A0911C5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8EB-A597-446B-B964-191B1A08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CBC6-01AA-495C-9798-439E795E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595C-5DC6-4F3B-ACFE-A3C3432E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4DAE-8710-40C0-9033-EF5A7456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10ED-88F4-4DB0-88A4-465C51D7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FBD4-D254-434E-8BBB-0F4F182B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45CF-08FF-4A6A-B6D4-F334844D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4DD5-9515-4A5C-87E5-E7E1BB77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E8FB-E834-48D0-A03A-3D55AD9A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9F8C-5AB9-43BA-A9F8-659AF4C6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4D75-3A6E-42B4-B05D-97397C3C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2E58-8609-4DA7-A98C-DBE90127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A14B-DA2A-4B22-9546-3FB1D47F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B71B-CE9F-4E51-98EA-5CC9CCD6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8C9-9ECD-47B1-9664-BC7C64B8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855-7F96-4E6E-AE92-0A98590F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DCE-6038-411D-B89C-84826BCE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48D-A02A-4107-974A-E1DAC58A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431-175A-4A8A-A65F-91FBEB84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2BD-91D7-47E0-84F3-D06F0117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2F8-08F4-4B5F-A333-F09F8FBF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226C-DCA7-40E2-BF81-C5A7083455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C92A-D13E-40ED-8239-0A747DA653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and Teaching Languages 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ona Coplan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id you learn English (another language)?  Which was dominant for you: exposure, use, motivation or instru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agree that these are the conditions for language learning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hat extent do you think instruction is essenti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e learners from the start (praise, make activities achievable, warm up class, create good atmosphere, respond to learners as peopl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courage learners to have a strong self-image of themselves as successful language learners with goals and strateg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ehensible In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urces of input for learn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urse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n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wspap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ublicity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pes/CDs/DV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OU!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25780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1584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teacher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 stories with visual aids, repetition, eye contact, stress and inton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di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 prepa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involved in the sto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acher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grade language effectiv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can talk too mu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get boring if done repeate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find ways to make listening interesting (funny story, puzzle, personal interes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/CD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- stage approac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has been d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eats exactly what has been s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tivities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ropriat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learners opportunity to hear other voices/acc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context – teacher has to provi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mbodied’: no ‘human’ interaction between tape and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icult to stop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does not respond to learners’ immediate difficul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ehensible Out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ca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ak to each other (this is valuable!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ak to the teac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e end of the session, participants will hav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knowledge and understanding of how people learn 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ed these principles to classroom learning and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ed their own practice in light of these princip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mistak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takes are natural and are evidence of learning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ule of thumb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rrect mistakes in controlled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correct in free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a note of mistakes and correct these as a class (e.g. ‘I heard someone say…….Is this correct?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y own practic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do you do most of in your clas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comprehensible inp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opportunities for outp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cus on for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ditions for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SSENTIAL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osu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2895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72000" y="2514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438280"/>
            <a:ext cx="30481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ESIRABL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5257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om Willis J. (1996)  A Framework for Task-based Learning.  London: Long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mus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ant to lear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motivation). S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work with learners’ natural motivation to lear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give learners the opportunities to see themselves as successfu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find out what learners wa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personalise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asshouse students speak up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my class there was too much emphasis on writing and not enough on listening and speaking, especially speaking!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ack of variety doesn’t help.  I find that quite a barrier, the fact that the class always starts in the same way means that I switch off mentally – oh no, no that again.  Generally I am someone who needs variety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I can remember is how to order one cup of coffee with sugar in it, and I don’t even take sugar!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posure to ‘comprehensible input’ (after Krashen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earners must be able to make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ome kind of sens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f what they are reading/hear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 listening text/reading text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oo difficul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learners will not be able to make sen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 listening text/reading text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oo easy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learners will not learn anything n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rtunities for ‘language use’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need to us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nguage to d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ings, for example, chat, negotiate, discuss, exchange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should be given opportunities fo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rolled practi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grammar, vocabulary, phonology, discourse) an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ree pract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asshouse students speak out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eacher would do most of the talking and when we needed to practise something she would go round the whole group one person at a time.  If there was a dialogue, she would take one part and the students would take another part…the whole thing would take about twenty minutes and you would only get your three minutes of glory.  I found that quite boring.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ceive instru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form, meaning and use of language, throug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ing and analy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rime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ing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04-18T10:07:4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1502425686</vt:r8>
  </property>
  <property fmtid="{D5CDD505-2E9C-101B-9397-08002B2CF9AE}" pid="4" name="_AuthorEmail">
    <vt:lpwstr>f.m.copland@aston.ac.uk</vt:lpwstr>
  </property>
  <property fmtid="{D5CDD505-2E9C-101B-9397-08002B2CF9AE}" pid="5" name="_AuthorEmailDisplayName">
    <vt:lpwstr>Copland, Fiona</vt:lpwstr>
  </property>
  <property fmtid="{D5CDD505-2E9C-101B-9397-08002B2CF9AE}" pid="6" name="_EmailSubject">
    <vt:lpwstr>Two more?</vt:lpwstr>
  </property>
  <property fmtid="{D5CDD505-2E9C-101B-9397-08002B2CF9AE}" pid="7" name="_NewReviewCycle">
    <vt:lpwstr/>
  </property>
</Properties>
</file>