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CA56-076F-49C6-B690-E324D5ADC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3D95-3807-416A-8CCD-2CF9F6E7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77AD-1FBF-4330-95EF-5E6C2495A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DEEE-11CC-4B7A-B403-4CAD73461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607C-F48F-4813-831D-3895CE4CD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1BDA-ACE7-4655-B562-ED0315C3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673E-A919-421E-AAFC-EEF1AA53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A3C3-166A-481F-9A92-5A8F3777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CC6F-4563-4799-ABAF-064AEFFB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20DA-FE96-4549-9BD6-75BBB0D8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B16C-BA50-4AF3-B833-BA26F385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BDDA-F8A4-47B4-B512-B1A0DEB4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4AD1-A6D2-4D74-8C0C-44613C2E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91BF-48BC-49D6-B7B8-FD0E8C22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DDB0-EBE6-42A0-A326-DC25B49A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4D45-A6D7-43FD-9C7B-79781E63C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3FF9-0006-44E7-95D7-C1585DD7A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CE01-D5CC-4AB2-B3DD-B1C87D22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C8FC-DEC0-4585-8DE2-5C62FE2C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7DE6-5953-4C47-9208-5FBBE839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E8A7-98A5-48DE-9B70-BA71FFDB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AED6-49AE-4C90-A485-6C91E3D5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7507-F79F-498B-8015-F564CE18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702C-8E0E-470D-84E6-54505A2E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41FE-D746-469F-8030-F27FA3B926A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283D-A981-48DF-8E57-F37795C7959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eaching Practice 2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ask-based learning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ditions for Language Lear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438280"/>
            <a:ext cx="26672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SSENTIAL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xpos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U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289548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572000" y="251496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57800" y="2438280"/>
            <a:ext cx="304812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SIRAB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str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52578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From Willis J.  1997. A Framework for TBL. Longma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did you learn English?  Which was dominant for you: exposure, use, motivation or instruct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you agree that these are the conditions for language learning?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what extent do you think instruction is essential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lems with TB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ticip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we learni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iring and group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par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ther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urrent thinking on tas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rd and soft ver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ing preferen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st-modern pedagog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staff</cp:lastModifiedBy>
  <dcterms:modified xsi:type="dcterms:W3CDTF">2009-12-08T15:34:0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