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CAA-713F-4ADC-AC95-ABDF790B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015-4D9D-466D-A018-E8FF7F32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54D-04FC-48E2-A88B-0CD3869D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7CE-A35D-4353-BB55-78955453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1BA9-6E30-430D-8A65-A5110F91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A7B9-F9D2-430F-B869-6912FA38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C371-347B-41CD-BD90-3CAAB902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49C7-FBDC-49B3-89C8-99C3DCA3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CB21-146D-449D-87B2-F28A00EB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7785-C304-4E7B-9E18-A0C46B78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7BE6-6D27-4E15-A2A6-9E2A747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A51-22C5-47BA-BFC5-14008DF5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E464-6066-4F1D-AC9C-48EE33C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B50B-60CF-4F3C-AD47-E721196E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A434-93DA-4D2D-9967-D6BA3790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1252-3799-479A-8307-6683C62F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0E96-D206-41D6-BD4C-C48D937C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4BB-FA36-42DF-9619-148EA920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493-5BA8-493E-A6BB-239D59F9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2DE-A3E4-410B-B98C-B5A42232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46C-F34B-4D6B-89B3-81EA21A0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B69-1C80-4812-957E-EFB3108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EC0-58A5-41B5-B74E-537DBE78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D27-61EE-4C3F-BE14-8D57484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69C3-C2B1-46D8-A197-03B15FE88C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D0DA-649C-42DF-9ABA-D1D9399BB1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886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rnitur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91120" y="441936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8769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9528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9528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9528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oken Discourse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ening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/hel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aking a turn: Yes, but.. ;surel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lding a turn: er; um; anyway; you know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ssing a turn: what do you think; isn’t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losing:  Right; Well, anyway; Okay then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-sequence: listen, did I tell you abou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pair: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el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 really meant was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 Sorry, I don’t get what you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sho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f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’m getting at i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you getting a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urse Into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spoken text, what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r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ext, spoken or written, which consi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more than one cla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 analys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The description of language above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ence’.  (McCarthy, 199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Coherence is something created by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er in the act of reading the tex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herence is the feeling that the tex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gs together, that it makes sense, tha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just a jumble of sentences’. (ib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he links are made between clause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‘technical’ types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mmatical and lex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mmatical Coh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aphoric; cataphor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The dog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jumped a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 man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.  It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hi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owed round the sweet seller: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John, Paul, Simon and F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ubstitu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said he would take early retirement and he has to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the blue shoes or the red 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on the competition!  That’s grea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ipsi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Fred? Y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lecture lasted an hour; the second was over in 20 min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he remarri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but she wi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junc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ve; adversative; causal;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/also/further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/ther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/next/after that/ fi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/although/desp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Cohe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wo types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petition and collo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Halliday and Hasan, 197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cCarthy (91) identifies three types of repetitio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ct repetition (A dog, the do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ynonomy (A dog, the box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tonomy. (The war; the pe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erord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4290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86200"/>
            <a:ext cx="3809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96252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19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install</cp:lastModifiedBy>
  <dcterms:modified xsi:type="dcterms:W3CDTF">2007-11-22T12:53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