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24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10D-1268-447A-BC7C-F0FC1768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330-77F1-470C-9CFD-8495E773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453E-AB44-4E67-83C4-EA41B6735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060-7121-49B5-9F53-AB9788F4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70BD-48F5-4B0B-B287-F458857D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93E-8156-43B0-B5F9-90CF3208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E1A-1291-4855-A5D7-056FAB06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ACF-FBD3-4477-8CE1-4140402A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5817-FE46-4EC5-B505-D73CCAC9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B2F-2804-4344-B26E-1DAB2C5A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C7E-4C52-44F7-9E1C-F079523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3FD-2EAE-4292-91E6-5029EC3C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D390-53A3-44CC-834B-9EA83B4E59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ree kinds of mean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component is the part where we describe the options that we have in expressing interperson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component expresses experiential mean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component describes options in expressing textual meaning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7D8F-2596-40AC-95DE-6FA34C552B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mponent has its own system of cho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2713-5224-49D8-A5D2-47D9A17D78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personal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ogative meanings (ques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larative meanings   (statemen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erative meanings (command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FC98-238C-4C18-8150-000801201E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English, to ask a question, an interrogative meaning, this will typically result in the structure Finite ^ Subject: have you?  (^ means followed by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declarative meaning, Subject ^ Finite ‘You have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8379-1CF4-4CAF-BFEE-27D65FD134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experiential perspectiv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Shocked Shilpa Shetty 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a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ACTOR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ull footage of her orde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full foot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GOAL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PROCES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4B8D-8667-4C5C-8D56-A0EEEC18C6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alysis from the interpersonal perspective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cked Shilpa Shetty yester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w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V/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 of her orde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ADJUN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1A2B-FF6F-40C7-B4E1-9781758CE7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ull foot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SUBJECT 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P/V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00080"/>
                </a:solidFill>
                <a:latin typeface="Calibri"/>
              </a:rPr>
              <a:t>OBJ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8675-04B1-435E-90FC-1FC382BC6F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sis from the textual perspectiv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hocked Shilpa Shet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sterd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w the full footage of her orde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The full footage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80"/>
                </a:solidFill>
                <a:latin typeface="Calibri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see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hocked Shilpa Shetty  yester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4F42-12DA-43F1-BDDD-C8C701B670D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is a system of choic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hoice, however unconsciou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ibutes something to the meaning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aid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7093-C7C2-4394-A4FD-073714B880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gister and Genr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gis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variation according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ab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involved in the communication and their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5D94-D288-4AF6-A3F6-7BB283CB00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afun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27E8-66A9-49BD-8CDF-C599481853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eld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ing talked or written about) is determined and  reflected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riential meanings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s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7767-1365-4B23-857C-698EA37390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n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who is involved and their relationship) is determined and reflected i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personal meaning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lationship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62CC-A8E9-493D-9597-6C96BFC23B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d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ken or written) is determined b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ual meani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28EC-35CB-4F15-9702-369C9C5B19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nr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ster plus purpo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7410-7273-40D1-9F38-11E67C7F64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LPA:MY 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h  my God…I had no idea it was so ba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cked Shilpa Shetty yesterday saw the full footage of her ordeal at the hands of racist bullies Jade, Jo and Danielle for the first time- and gasped: ‘I’d no idea it was so bad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 31-year old Bollywood beauty watched the three bullies spitting out cruel taunts and foul-mouthed insults behind her back, she said; ‘I didn’t know all that had gone on. They are so mean. Why didn’t somebody stop them? It hurts me deeply. Look at me…I’m still shaking.’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iling Shilpa had still been on a high from her Celebrity Big Brother triumph as she sat down to watch the videos yesterda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9E49-78CA-41CA-A339-208C4D3435E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about our experiences, including imaginary o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describe events and/or  states, and the entities involved in th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84E6-D8FE-4489-82E5-89BB89A945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language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act with other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and maintain relationsh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ce behavi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 our own point of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cit or change the point of view of oth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29C1-83D1-45BF-B668-8F31351AC8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organize messages in ways that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hey fit in with others and the wider context in which we are talking or writ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1C76-DC20-4B5D-9421-14942A9019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lpa: My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 my God…I had no idea it was so b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, Harry, you HAVE grow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013A-6103-41ED-AB09-5D9278BB91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enti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periential function of the Shilpa Shetty story is  to talk about her reaction to the ‘Big Brother’ footage, once she has seen it for the first tim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the Harry story, it is a reporter’s views on Daniel Radcliffe appearing naked in a West End play Equ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4962-FD04-44DE-8FEF-DD5367F5D3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erson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terpersonal function of both  is to interact with the paper’s readers, to express points of view (Shilpa’s and the journalist’s) and, in the Shilpa story, to influence behaviou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98B7-2379-4EB9-B791-571C28BA82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ual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xtual function of both is to present the information conforming  to the conventions of newspaper reporting, and those associated with tabloid newspapers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print headline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l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nning on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F9E0-C093-4274-8100-06962D5367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1T11:36:34Z</dcterms:created>
  <dc:creator>student</dc:creator>
  <dc:description/>
  <dc:language>en-US</dc:language>
  <cp:lastModifiedBy>Fox</cp:lastModifiedBy>
  <dcterms:modified xsi:type="dcterms:W3CDTF">2010-01-27T10:30:02Z</dcterms:modified>
  <cp:revision>9</cp:revision>
  <dc:subject/>
  <dc:title>Three kinds of meaning </dc:title>
</cp:coreProperties>
</file>