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24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2AF-80AE-4BA2-97A5-79183C8F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2E7-438A-4F87-858E-7820076D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856-CB9D-4076-8474-297E99B6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D81-A7A7-43AC-BF34-BEEE0852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D5E-2610-4FEA-BC75-EF12D5FE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A84-016A-47BE-94FB-1AFF3447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F85-2357-4174-906D-203CD597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B07-74EB-4C9A-BC78-6344D370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D48-47F2-4B8C-9288-4D23FE7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6D0-D6D4-48F4-A8D4-098D6FA5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D04-0067-4827-B1A5-C1EF6EED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685-BC2D-4738-8CFB-E8867969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EBE2-0AD7-4D61-906B-0DF6E92638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ree kinds of mean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personal component is the part where we describe the options that we have in expressing interpersonal mean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riential component expresses experiential mean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extual component describes options in expressing textual mean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7C0B-A9EE-4616-92BD-57CCA62922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omponent has its own system of choi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3351-6FDE-458F-B0CC-49D7D5E93E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personal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rogative meanings (ques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arative meanings   (statemen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erative meanings (command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8A3B-06C1-4A6F-9793-AA4616A76F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nglish, to ask a question, an interrogative meaning, this will typically result in the structure Finite ^ Subject: have you?  (^ means followed by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clarative meaning, Subject ^ Finite ‘You have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0D8E-0129-47BA-AF57-A64529EA56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alysis from the experiential perspectiv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Shocked Shilpa Shetty yesterd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ACTOR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ull footage of her orde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GOAL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he full foot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GOAL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PROCES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hocked Shilpa Shet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5007-35F6-47DA-B75E-92F49E1408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alysis from the interpersonal perspective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cked Shilpa Shetty yesterd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w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SUBJ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V/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ll footage  of her orde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OBJECT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ADJUN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C0E4-2604-4023-9CAA-E89945636E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ll foota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SUBJECT 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P/V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hocked Shilpa Shetty  yester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OBJ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7125-BA3E-45D2-ADDE-86955D5B09A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alysis from the textual perspectiv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hocked Shilpa Shett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THE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terd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w the full footage of her orde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The full footage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hocked Shilpa Shetty  yester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9459-AE82-4B0C-8097-4CD1D76FC8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is a system of choic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hoice, however unconsciou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ibutes something to the meaning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said or writ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CD7F-9814-4483-9723-6AA505FBEC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gister and Genr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s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variation according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e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ing talked ab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no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involved in the communication and their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ken or writ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BB02-DF7C-495F-B7E6-275B25BEC2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fun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erson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3159-3944-42DD-A519-5FE4FAE3A6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eld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ing talked or written about) is determined and  reflected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ential meanings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038A-72ED-4CC1-A8F9-5FD00E4101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n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who is involved and their relationship) is determined and reflected i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ersonal meaning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lationship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FE8E-3711-4EDB-A5DB-A09799A3644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ken or written) is determined 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ual mean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C095-4904-4C96-B651-A25407C17F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nr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er plus purpo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D6C8-B6EE-4895-9836-96910241BA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LPA:MY 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h  my God…I had no idea it was so bad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cked Shilpa Shetty yesterday saw the full footage of her ordeal at the hands of racist bullies Jade, Jo and Danielle for the first time- and gasped: ‘I’d no idea it was so bad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31-year old Bollywood beauty watched the three bullies spitting out cruel taunts and foul-mouthed insults behind her back, she said; ‘I didn’t know all that had gone on. They are so mean. Why didn’t somebody stop them? It hurts me deeply. Look at me…I’m still shaking.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iling Shilpa had still been on a high from her Celebrity Big Brother triumph as she sat down to watch the videos yesterd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A253-0E9C-4609-AFDE-F9DDD8BEA1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erienti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language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about our experiences, including imaginary o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escribe events and/or  states, and the entities involved in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6953-986F-4F29-BAF4-8666120405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person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language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 with other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 and maintain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luence behavi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our own point of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cit or change the point of view of oth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1A83-6773-4D65-BC08-6A9D21A550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xtu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organize messages in ways that indic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hey fit in with others and the wider context in which we are talking or writ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A600-DC37-40BF-80D0-D0E50C2F98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lpa: My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 my God…I had no idea it was so b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, Harry, you HAVE grow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A6BA-28C2-48D4-A641-AD1A04B9D0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ti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riential function of the Shilpa Shetty story is  to talk about her reaction to the ‘Big Brother’ footage, once she has seen it for the first ti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the Harry story, it is a reporter’s views on Daniel Radcliffe appearing naked in a West End play Equ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C464-852C-4625-A44C-F887E502FF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erson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personal function of both  is to interact with the paper’s readers, to express points of view (Shilpa’s and the journalist’s) and, in the Shilpa story, to influence behavio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3B24-FE09-4138-AFCD-48819D9D741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u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extual function of both is to present the information conforming  to the conventions of newspaper reporting, and those associated with tabloid newspaper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print headlin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l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nning o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B1D1-0992-430C-A02C-9258EFCFB6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1:36:34Z</dcterms:created>
  <dc:creator>student</dc:creator>
  <dc:description/>
  <dc:language>en-US</dc:language>
  <cp:lastModifiedBy>Fox</cp:lastModifiedBy>
  <dcterms:modified xsi:type="dcterms:W3CDTF">2010-01-27T10:30:02Z</dcterms:modified>
  <cp:revision>9</cp:revision>
  <dc:subject/>
  <dc:title>Three kinds of meaning </dc:title>
</cp:coreProperties>
</file>