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700246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97BE-80C1-46D5-A04A-C770A08B6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D1B0-079A-4441-9281-F64AA3426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06C8-5801-434B-9D2C-7A937E43D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FF10-DD3B-41D2-A44C-67600B0D2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FA77-F96B-42F9-9ACE-616F31005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3E21-2826-4E2C-9864-95D6A556D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E238-5EF9-4A9E-93B2-D554E35C4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3F59-7341-47B3-B6E1-489493A9D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DE57-D5A9-4767-93FB-59CA85702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7EE6-4959-4FD3-98D8-03AFFD52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29EE-59DB-4529-A356-CBC445DDD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CFC1-0451-4746-9604-85EC3573F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4124F-8288-4B2D-A33D-A1434F7AB46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ree kinds of meaning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interpersonal component is the part where we describe the options that we have in expressing interpersonal mean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experiential component expresses experiential mean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extual component describes options in expressing textual meaning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5DC66-3AB1-4923-A0FA-5009552FC63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ch component has its own system of choic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9A8F4-E522-4139-B33B-90851F5859D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terpersonal: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rogative meanings (quest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clarative meanings   (statements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erative meanings (commands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9ED70-0DE4-43B3-95E7-F705A1F34DC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English, to ask a question, an interrogative meaning, this will typically result in the structure Finite ^ Subject: have you?  (^ means followed by)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declarative meaning, Subject ^ Finite ‘You have’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01078-6CF8-4987-8039-124666F547A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nalysis from the experiential perspective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Shocked Shilpa Shetty yesterday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a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800080"/>
                </a:solidFill>
                <a:latin typeface="Calibri"/>
              </a:rPr>
              <a:t>ACTOR </a:t>
            </a: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800080"/>
                </a:solidFill>
                <a:latin typeface="Calibri"/>
              </a:rPr>
              <a:t>PROCES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full footage of her ordeal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GOAL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 The full footag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s seen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800080"/>
                </a:solidFill>
                <a:latin typeface="Calibri"/>
              </a:rPr>
              <a:t>GOAL</a:t>
            </a: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800080"/>
                </a:solidFill>
                <a:latin typeface="Calibri"/>
              </a:rPr>
              <a:t>PROCESS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y shocked Shilpa Shet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AC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A1E47-D42C-42BE-915A-C6D40CC4A2C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nalysis from the interpersonal perspective: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cked Shilpa Shetty yesterday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w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800080"/>
                </a:solidFill>
                <a:latin typeface="Calibri"/>
              </a:rPr>
              <a:t>SUBJECT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800080"/>
                </a:solidFill>
                <a:latin typeface="Calibri"/>
              </a:rPr>
              <a:t>V/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ull footage  of her ordea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0080"/>
                </a:solidFill>
                <a:latin typeface="Calibri"/>
              </a:rPr>
              <a:t>OBJECT</a:t>
            </a:r>
            <a:r>
              <a:rPr b="0" lang="en-GB" sz="32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800080"/>
                </a:solidFill>
                <a:latin typeface="Calibri"/>
              </a:rPr>
              <a:t>ADJUN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FFBCA-35D6-42F9-BE0E-F252523C48A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ull footag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s see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0080"/>
                </a:solidFill>
                <a:latin typeface="Calibri"/>
              </a:rPr>
              <a:t>SUBJECT </a:t>
            </a:r>
            <a:r>
              <a:rPr b="0" lang="en-GB" sz="32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800080"/>
                </a:solidFill>
                <a:latin typeface="Calibri"/>
              </a:rPr>
              <a:t>P/V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 shocked Shilpa Shetty  yesterd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0080"/>
                </a:solidFill>
                <a:latin typeface="Calibri"/>
              </a:rPr>
              <a:t>OBJECT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46BCD-206B-4968-AD54-DBAD0FE06D9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nalysis from the textual perspective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Shocked Shilpa Shetty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00080"/>
                </a:solidFill>
                <a:latin typeface="Calibri"/>
              </a:rPr>
              <a:t>THEM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esterday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w the full footage of her orde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HE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The full footage </a:t>
            </a: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00080"/>
                </a:solidFill>
                <a:latin typeface="Calibri"/>
              </a:rPr>
              <a:t>THE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s seen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y shocked Shilpa Shetty  yesterd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HE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B623A-75ED-414B-AC77-8D72DBC82C3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nguage is a system of choice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ch choice, however unconscious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ributes something to the meaning of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said or writt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44144-5226-48D0-8A6E-6C5FA03EAF4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gister and Genre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gist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variation according to 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eld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being talked abou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enor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 is involved in the communication and their relationshi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ode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oken or writt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1751D-22C0-4FB2-AB25-0A6610D0850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etafunction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perient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terpersona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extu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B84DB-65B1-41D5-A0A5-63B4C6B4C24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eld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being talked or written about) is determined and  reflected in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periential meanings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eriences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00DC2-DEA2-40E6-96B5-C1C9B562660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eno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who is involved and their relationship) is determined and reflected in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terpersonal meaning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relationships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AC1E0-5CFA-468F-AB2D-0E5CC4AB161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ode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oken or written) is determined b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extual meaning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D6BE4-AC6D-4F00-86DF-299A83EAAF3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enre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ister plus purpos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FC3CA-0E07-406B-BB48-1E035C60A32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ILPA:MY ST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h  my God…I had no idea it was so bad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ocked Shilpa Shetty yesterday saw the full footage of her ordeal at the hands of racist bullies Jade, Jo and Danielle for the first time- and gasped: ‘I’d no idea it was so bad’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 the 31-year old Bollywood beauty watched the three bullies spitting out cruel taunts and foul-mouthed insults behind her back, she said; ‘I didn’t know all that had gone on. They are so mean. Why didn’t somebody stop them? It hurts me deeply. Look at me…I’m still shaking.’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miling Shilpa had still been on a high from her Celebrity Big Brother triumph as she sat down to watch the videos yesterday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254B8-EC40-4C5D-BF7D-FF25BA45844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xperiential Fu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use language to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lk about our experiences, including imaginary on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describe events and/or  states, and the entities involved in them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50A23-69A6-4A46-B08E-483BCF1B155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erpersonal Fu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use language to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act with other peo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tablish and maintain relationshi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fluence behavio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ress our own point of 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icit or change the point of view of oth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F9210-8BDA-496F-81B2-0ADBE1B2294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extual Fu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organize messages in ways that indica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they fit in with others and the wider context in which we are talking or writing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F25FE-22F4-4FB3-AE23-AF0C6AC4442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ilpa: My S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h my God…I had no idea it was so b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y, Harry, you HAVE grown 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69C56-481F-4757-A2B2-4BC85A5B197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periential fu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experiential function of the Shilpa Shetty story is  to talk about her reaction to the ‘Big Brother’ footage, once she has seen it for the first tim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the Harry story, it is a reporter’s views on Daniel Radcliffe appearing naked in a West End play Equu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F0EE6-EADC-438B-B8D8-2C01EFE3C5A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personal fu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interpersonal function of both  is to interact with the paper’s readers, to express points of view (Shilpa’s and the journalist’s) and, in the Shilpa story, to influence behaviou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8B6C1-F7B1-4B04-9FDF-348164715D9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ual fu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extual function of both is to present the information conforming  to the conventions of newspaper reporting, and those associated with tabloid newspapers: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g print headlines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formal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unning on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40D29-41E5-44BE-A8EE-5BC33860032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1T11:36:34Z</dcterms:created>
  <dc:creator>student</dc:creator>
  <dc:description/>
  <dc:language>en-US</dc:language>
  <cp:lastModifiedBy>Fox</cp:lastModifiedBy>
  <dcterms:modified xsi:type="dcterms:W3CDTF">2010-01-27T10:30:02Z</dcterms:modified>
  <cp:revision>9</cp:revision>
  <dc:subject/>
  <dc:title>Three kinds of meaning </dc:title>
</cp:coreProperties>
</file>