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CF047-B3A7-4720-94B4-69EBAA323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D2A3-3DDE-4BE3-8B7E-873119D31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A3A2-3F83-41D6-983E-C9DC1353B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4326-400D-470F-B96E-E2E952A6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0D462F-0963-4E03-BBD7-D1D128730B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79966-B9DD-411D-84C0-2538440D02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94F1C-20DE-42E4-84C0-55C92636A1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A93C0-65F1-4764-AD4F-449E05B7C2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8F2C2-DB43-4597-AEEA-F778942FEF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5DE43-D4AF-4868-ACA2-AD46A5262A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C1E4A-4761-4D7A-8461-12E741B67C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DCB3-6055-4DBE-93E7-352621028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ACAD0-33B9-42F2-B888-B92CB91C2C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8E2A1-DC4A-4FFE-ACE8-D7E256082A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99E1E-FF42-46C3-9C67-9AF86ACC00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4A9772-1074-4143-9F56-F81A67D644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5D01A9-10A4-47E8-9472-11E20D2901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A20E6-E0B4-4C13-BDBE-496339B0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76C90-D407-41D5-B3D0-2A9EC66E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F3D7D-60BA-4C72-BE89-C5BD6E2A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1742D-1078-4EDA-9940-E8B580A7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D861-2A3F-4A58-831D-85FBE2633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49A6-E042-40B5-BC36-57053E81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39A5-16BC-43B4-82C6-287F95181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C488-ECDD-4532-B8E7-4B7721DE68EA}"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67F0-9856-4DF5-9170-A24A34A09B17}"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31F3-426A-46A6-860A-E2B006DB0D80}"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B75C-8260-4B07-9554-D7944C64C72B}" type="datetime">
              <a:rPr b="0" lang="en-US" sz="1400" spc="-1" strike="noStrike">
                <a:solidFill>
                  <a:srgbClr val="ffffff"/>
                </a:solidFill>
                <a:latin typeface="Arial"/>
              </a:rPr>
              <a:t>07/30/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