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24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C2E-F469-4C63-859D-2B52DE85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3F5-E941-413D-8CE2-5683542F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B71-EE1E-4081-ADAB-31424646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DDD-7DDD-4F57-ADE3-DE0A0022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7B0-2503-413D-98EF-7F027AF6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966-EFF6-45EC-BA68-52FBC761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15A-E107-4BD1-BCBF-CF3F7AE8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98A-C1B3-4D54-ADA7-CE49B94F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298-DB7C-4392-867D-F53F8B0C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880-9D67-43D3-B47F-45714C43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3E8-A34B-4AB7-AD8B-FB9C63C7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40E-9FA0-4BB3-BDA5-FD10D1FA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2168-032C-4D2D-A538-74E0B82360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ree kinds of mean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component is the part where we describe the options that we have in expressing interperson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component expresses experienti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component describes options in expressing textual mean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06E4-E64A-4D55-B466-CE98C55C0E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mponent has its own system of choi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C2B1-35EA-486E-BFD7-79B520AC03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personal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rogative meanings (ques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ative meanings   (statemen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erative meanings (command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FA20-1AD7-4F20-9ECD-BB2BC678E1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nglish, to ask a question, an interrogative meaning, this will typically result in the structure Finite ^ Subject: have you?  (^ means followed by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clarative meaning, Subject ^ Finite ‘You have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CA79-D1A7-4ECC-B882-BEDB4B2485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experiential perspectiv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Shocked Shilpa Shetty 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ACTOR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ull footage of her orde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full foot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54F8-D1A8-423A-98FE-BEC62A066A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interpersonal perspective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cked Shilpa Shetty yesterd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w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V/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 of her orde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ADJUN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B6E5-498E-45AB-96D2-5EFB97E869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 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P/V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FEDB-DED8-41C4-B200-16955D4FEE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lysis from the textual perspectiv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hocked Shilpa Shet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w the full footage of her orde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The full footage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310D-9E8B-4B28-BC0D-6B455A4C5B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is a system of choic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hoice, however unconsciou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ibutes something to the meaning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aid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6620-B8CF-49A6-99F1-7C73159B97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gister and Genr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s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variation according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ab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involved in the communication and their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19F2-73C0-4706-9D8A-FFD914B308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fun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F006-2D0A-43C7-980E-FA8899D422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or written about) is determined and  reflected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 meanings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B1E0-0327-40D3-BF45-4E3A2EF143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o is involved and their relationship) is determined and reflected i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meaning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lationship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18FD-A927-4FE1-9D18-85A0F7E831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) is determined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 mean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2D94-3502-4A70-A9A9-2E6732A0FE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r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er plus purpo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FAB7-1074-4046-AD4B-B628B541BD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LPA:MY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h  my God…I had no idea it was so ba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cked Shilpa Shetty yesterday saw the full footage of her ordeal at the hands of racist bullies Jade, Jo and Danielle for the first time- and gasped: ‘I’d no idea it was so bad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31-year old Bollywood beauty watched the three bullies spitting out cruel taunts and foul-mouthed insults behind her back, she said; ‘I didn’t know all that had gone on. They are so mean. Why didn’t somebody stop them? It hurts me deeply. Look at me…I’m still shaking.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iling Shilpa had still been on a high from her Celebrity Big Brother triumph as she sat down to watch the videos yester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BF5B-DB90-4775-B57F-917411196C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about our experiences, including imaginary o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scribe events and/or  states, and the entities involved in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AE6F-C8F1-4B2C-9769-4683539FC8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 with other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and maintain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uence behavi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our own point of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cit or change the point of view of oth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F1E-E2F2-449B-B019-4531339680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organize messages in ways that indic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hey fit in with others and the wider context in which we are talking or wri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2B4C-609C-4CBA-9C1E-5481417019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lpa: My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 my God…I had no idea it was so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, Harry, you HAVE grow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FD23-5DC6-47BA-9D4F-EF61AD75C0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function of the Shilpa Shetty story is  to talk about her reaction to the ‘Big Brother’ footage, once she has seen it for the first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the Harry story, it is a reporter’s views on Daniel Radcliffe appearing naked in a West End play Equ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AFE7-2891-4913-9C12-5BC56BD05E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function of both  is to interact with the paper’s readers, to express points of view (Shilpa’s and the journalist’s) and, in the Shilpa story, to influence behavio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794D-40BF-40CF-864E-9034D742B5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function of both is to present the information conforming  to the conventions of newspaper reporting, and those associated with tabloid newspaper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print headlin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l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nning o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5D17-CBAA-42C2-894A-C1F8933BE7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1:36:34Z</dcterms:created>
  <dc:creator>student</dc:creator>
  <dc:description/>
  <dc:language>en-US</dc:language>
  <cp:lastModifiedBy>Fox</cp:lastModifiedBy>
  <dcterms:modified xsi:type="dcterms:W3CDTF">2010-01-27T10:30:02Z</dcterms:modified>
  <cp:revision>9</cp:revision>
  <dc:subject/>
  <dc:title>Three kinds of meaning </dc:title>
</cp:coreProperties>
</file>