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E2AC-9B3A-4253-9410-DF84AF0CA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5A71-CE71-4674-92DE-36DF02A62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9E2D-5541-42AD-BFA1-F4012F3A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3A0E-FD51-491B-8E6B-8C73DB927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F58E-2584-4586-ACE9-4F7597402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076A2-74B0-4737-A6B9-03D3363CF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2CF1-D517-437F-8350-8F400E41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29505-C0B2-484C-9209-85A4D32C1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3E60-EDC1-420F-9BBF-0FE84A37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6D0E-03D7-4BB1-8E7D-3BDFE6C0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5C203-A1D9-4CFF-A277-7A266EFE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3896-C38F-48E0-A457-4AD2DB70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5A67C-56BD-49D3-BAE6-410524B72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5C31B-82F6-4B21-828B-B52EEF798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1B55-6067-48DD-AAB7-EF7A8EA0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D1715-33EB-427D-8966-7798E7188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BCB06-A77E-45A6-84BD-7B3BBCDB1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E061-D3B0-4D01-B6AA-C26E121A1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FF7B-D893-4592-A784-24FD7B6E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8E49-F1B5-4CE3-BA21-E1CC5BA7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C0ED-3674-4660-BE99-2391C62B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75DD-ECE4-43E4-B254-837A36803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39F2-EB05-4FE6-BFE7-34B07040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557-D579-455B-A80C-3BCAAB49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A809-DB6D-43C5-ABD6-2B627C85BB8E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81F2-7687-481E-9534-F9E55E684E3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anscrib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his should be as detailed as is necessar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Only transcribe the sections you feel are necessary to your discussion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66"/>
                </a:solidFill>
                <a:latin typeface="Arial"/>
              </a:rPr>
              <a:t>General rul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Number the lines if the section is lo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ndicate who is speakin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‘tidy up’ the transcript, say how you have done thi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4.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f you can’t hear, write (inaudible)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Action Research topic: teaching grammar using a C-R approach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ata collected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s’ 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sson record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iary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utor’s feedback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ers’ feedbac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How will you integrate this into your assignmen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-R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tting, participants, dat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scussion of C-R literatu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earch desig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e Less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sults: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udent feedback/Peer Feedbac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nalysis of spoken data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valu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kind of data is available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corded class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Diary accoun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s’ log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Questionnair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wor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Observers’ 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ieldnot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Data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ent analysis and co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ook for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repeated</a:t>
            </a:r>
            <a:r>
              <a:rPr b="0" i="1" lang="en-GB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language or ideas in the texts that you have.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Use coloured pens, index cards or another system to code the respons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Your codes can either be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‘a priori’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(you decide on these before you start to code) or they can </a:t>
            </a:r>
            <a:r>
              <a:rPr b="0" i="1" lang="en-GB" sz="2400" spc="-1" strike="noStrike">
                <a:solidFill>
                  <a:srgbClr val="006666"/>
                </a:solidFill>
                <a:latin typeface="Arial"/>
              </a:rPr>
              <a:t>emerge</a:t>
            </a:r>
            <a:r>
              <a:rPr b="0" lang="en-GB" sz="2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from the da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naires are likely to have a priori categories for closed questions; fieldnotes, diaries, tapescripts are likely to have a mixture of both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nalysis of Spoken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Coding system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e.g. 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Types o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:  e.g. questions (open vs closed; genuine vs display; lower order vs higher order) or answers (one word; medium turns; long turns)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Quality of: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e.g teacher talk; student talk; explanations (vocabulary/grammar); instructions; teacher-student interaction; checking understan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ontinue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666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Amount of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udent talk/teacher talk; whole class work/pair work/group work/individual work; wait time; thinking time; working with students’ answers (dialogic talk); silence; one student speaking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Triangul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A tool used in qualitative research to help ensure validity (that the research is of good quality and acceptable.  Internal validity: that the claims made are trustworthy; external validity: how generalisable are our claims).                         . 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esearchers elicit </a:t>
            </a:r>
            <a:r>
              <a:rPr b="0" i="1" lang="en-GB" sz="2800" spc="-1" strike="noStrike">
                <a:solidFill>
                  <a:srgbClr val="006666"/>
                </a:solidFill>
                <a:latin typeface="Arial"/>
              </a:rPr>
              <a:t>multiple perspectives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on the situation being studi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hoosing data for analysi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alk is designed to be heard, not read, so never move straight from recording to transcribing: always take time to listen carefully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180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Finding inform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f you listen to the tape you’ve made, your first reaction will be, ‘Nothing’s happening’.  In my experience, this is </a:t>
            </a:r>
            <a:r>
              <a:rPr b="0" i="1" lang="en-US" sz="2400" spc="-1" strike="noStrike">
                <a:solidFill>
                  <a:srgbClr val="003366"/>
                </a:solidFill>
                <a:latin typeface="Arial"/>
              </a:rPr>
              <a:t>alway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the case when someone new to analysis listens to a tape for the first time…..listen to your tape over and over and over again …until you find part of the lesson where something interesting is happening.’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ichards, 2003: 18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A</cp:lastModifiedBy>
  <dcterms:modified xsi:type="dcterms:W3CDTF">2007-11-29T09:47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