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3C51-11F6-4520-966C-E094EF8B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7C61-B903-458B-A4CF-33CE57095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89F0-9553-4B41-97C1-28E72CB50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21EA-DEB2-4DD8-8873-8C617EDDC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A0541-8F31-4364-838C-41433F78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03E71-36A2-434E-BDD7-FA2A0077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E0C48-CFF4-4830-A7BB-EFA71AE95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4669-9230-4484-A161-2C01B5EC0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7CFF-4833-479B-B593-F80FB2E35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354F-F857-4DFA-A1B8-DA6C7DAD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B34A-577F-462B-9127-348BCC570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5593-338F-4703-9BCF-E10923FC2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5CECB-6C78-4E82-B043-8467C8EBA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8E2D-0508-4758-9D84-0AB71757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E44C-EC49-4AC7-9352-DD6F2BC6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A7A86-A906-4C71-B7D1-1E2C0C8CE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C19CB-5C69-4F72-A09B-E837AA6DC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A051-01F9-4733-AC04-456CE860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3A38-BB4F-4FA6-A283-DBED7386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A876-5CEB-4BC0-B2FC-E0518A50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A28C-F23D-4836-9A32-939FF70D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2B16-B05B-4865-81CB-1D309BA3E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180-B815-4BB5-92C5-0EBDCD85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39D-1EC6-4C3D-B975-410520C8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C807-77ED-46AA-98D4-85490B258B6B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AC45E-EE67-4AF5-A568-CBDB5D530337}" type="slidenum">
              <a:rPr b="1" lang="en-GB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66"/>
                </a:solidFill>
                <a:latin typeface="Arial"/>
              </a:rPr>
              <a:t>Approaches to teaching and learn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6666"/>
                </a:solidFill>
                <a:latin typeface="Arial"/>
              </a:rPr>
              <a:t>Classroom Tal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Walsh (2002)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Do you agree or disagre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the topic of discuss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often control both content and procedur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control who may participate and wh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Students take their cues from the teache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sk questions to which they know the answer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talk most of the ti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modify their talk to learn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Teachers are responsible for managing the interaction that occur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Teachers’ Question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(recitation) vs. dialogic teach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Mono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leads to an ‘authoritative discourse’ in which the teacher delivers a set of pre-packaged knowledge (Skidmore, 200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3366"/>
                </a:solidFill>
                <a:latin typeface="Arial"/>
              </a:rPr>
              <a:t>Dialogic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ing offers an ‘emancipatory alternative’ (Lyle, 1998) so that knowledge is co-constructed and students’ experiences and interpretations are valued and explore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ono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RF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selec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Teacher ignores attempts by learners to introduce other topic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Students’ responses tend to be sh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Usually there is only one correct answe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(Nystrand, 1997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Examples of IRF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What’s the boy do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e’s climbing a tree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‘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F’ moves in natural conversatio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rancis and Hunston (1992) classify f move in terms of function e.g. ‘terminating’ or ‘endorsing’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I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How are you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R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ot grea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F.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3366"/>
                </a:solidFill>
                <a:latin typeface="Arial"/>
              </a:rPr>
              <a:t>Never mind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Dialogi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urns are evenly distributed between speak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takes fewer turn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IRF not the mod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 responses build on previous students’ responses (‘chained’ Gutierrez, 199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Students self-sel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Teacher and students negotiate sub-topics for discuss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Questions exist for which there are no pre-specified correct answer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                                                </a:t>
            </a: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(Nystrand, 2007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Analysing Classroom Discours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Task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Identify IRF pat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at kinds of questions does the teacher as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Who controls the tal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Monologic or dialogic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3366"/>
                </a:solidFill>
                <a:latin typeface="Arial"/>
              </a:rPr>
              <a:t>Comment on the quality of the teacher’s tal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ull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66"/>
                </a:solidFill>
                <a:latin typeface="Arial"/>
              </a:rPr>
              <a:t>Cullen lists 5 effective feedback move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formul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Elabor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Com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pet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773c"/>
                </a:solidFill>
                <a:latin typeface="Arial"/>
              </a:rPr>
              <a:t>Responsivenes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030a0"/>
                </a:solidFill>
                <a:latin typeface="Arial"/>
              </a:rPr>
              <a:t>What does each mean and do you agree it is effectiv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oplanfm</cp:lastModifiedBy>
  <dcterms:modified xsi:type="dcterms:W3CDTF">2009-11-12T13:40:36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