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9F0D-3562-4AEB-B90E-BC7F02AC5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A16F-6648-4543-BFDC-F00FEEFBA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F1CB-A142-4C09-8545-6B9659F1D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317-C0CA-4676-884B-AAEB3CBB0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7BB0-7D79-49E9-86CE-CA67BCA47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DC02-C453-4D9A-A056-4E413639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703D6-CC1E-42FE-AE5C-D318975E4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0C25-F11B-4DF8-978B-5BA0C3C68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035A-EECD-4C0C-A328-BF23C613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7D27B-6CB8-4F7B-9DDD-13CBFC1D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9560-D9C4-4856-A691-9B8F7A93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40C2-2FBA-4B13-8143-41A152B2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98D5-7C61-41CE-9FD4-3D505B42C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164C9-6C5D-49CE-8A0D-9E1EEFAB8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8A01-EC89-4DD1-8315-81B5781E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9C74D-15A0-4BA9-B90D-CA11CFB7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BA1D-540E-494C-A5BB-EECE55F22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8EE-1B87-4CAA-A0B9-25CA1841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96C8-31E1-4473-9395-967C205E9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CCBA-6B4F-44B0-B53D-0F2600DA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5D42-9257-438F-B4E6-0BC07E95F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A8AA-B0BC-4B98-AF63-2296BBEC7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1345-1F0A-4CB6-A939-301E9033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90B-E0DC-45F0-8C3A-8572A41FA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C137-8359-47D7-BB7D-8F235976CAD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D40F-0F30-42D9-8299-27DDDBC300F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Developing Reading Skill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Approaches to Learning and Teaching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ook at the text agai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first stage questions to develop scanning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second stage questions which include: comprehension, interpretation, evaluation and personal respon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rite some third stage questions to develop vocabul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ost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reading activities go beyond the text to encourage students to make connections between what they have read and their own experiences and to other areas of learning 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 reading activities might include a discussion, a task, a writing activity, a role-play – pretty much anything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Design a post-reading task for the languages text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Underlying princip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ading approach should match reading purpo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re is a difference between a reading text used to present new grammar and vocabulary and one used to develop reading skill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earners do not need to understand every word to get the meaning of a text, but they do need understand a lot of word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ophisticated readers transfer reading skills from one language to another; less sophisticated readers may no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Key Vocabularly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kimm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for gis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cann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 - for particular pieces of inform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Intensive read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closely to find out as much as possib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Extensive reading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broadly for general interest or fu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Schemata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information an individual stores which can be drawn upon to understand texts (Schema Theory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Top down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reading holistically, using prediction, schemata and genre (amongst other things) to understand the text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cccc"/>
                </a:solidFill>
                <a:latin typeface="Arial"/>
              </a:rPr>
              <a:t>Bottom up</a:t>
            </a: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 – understanding each word, sentence, paragraph so that the text is understoo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eaching a reading skills less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de on the reading purpo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ecide what skill(s) you are trying to impro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nk about activating learners’ schema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member that if the text is too difficult, learners will strugg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hink about introducing top down and bottom up activiti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Lesson Flow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ading skills lessons are often divided into the following stage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-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ile-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st-reading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-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lead learners into the tex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motivate them to read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provide a context for the rea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 reduce anxiety about the tex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1055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You might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w the title/headline and ask for predictions of text cont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licit what learners know about the theme/topic (brainstorm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ow some pictures and ask the learners to guess what order they go in in the text or ask students to predict the 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re-teach difficult vocabula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ive an outline of the text or some useful information about it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ask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are going to use the text with an intermediate class to practice scanning skil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pre-reading activities would you se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ile rea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61760" y="2362320"/>
            <a:ext cx="7769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ctivities for while reading are usually in three stages:  activities to encourage students to get an overall understanding of the text; those which encourage students to work out more detailed meanings; and those which focus on particular grammar or vocabul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rst stage questions might include skimming or scanning question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stage questions might include comprehension questions, questions of interpretation, evaluation and personal response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stage questions might include finding synonyms, looking at grammatical patterns, identifying discourse mark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cation Staff</cp:lastModifiedBy>
  <dcterms:modified xsi:type="dcterms:W3CDTF">2008-11-10T12:21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