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1CE-147F-4C1A-9920-BC747D8A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4171-616D-4812-A175-A7684260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C83-9EFA-48F2-AD84-CC008A0F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1D36-2B7D-424B-A549-8CBF5B0D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B353-0C1A-44F6-821F-DC1377F1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772B-654F-4CC6-9158-0B36E81A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5F79-EB81-4811-8873-9D787C89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6628-ADBD-4682-AE0D-3FF501D4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9C0E-F560-44F1-AAF1-47EBBE00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2A06-2607-4ACB-9F78-9F46FD03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14D0-90F3-47B8-8B6F-D4E99539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11FB-22F7-42B8-B274-AC35B8F5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EDAA-425B-49BB-96C0-6729DFFA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8D93-E41D-44E3-82D3-8D1800F1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F792-671E-41D8-B2EC-83F8868D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D1AF-F517-41E9-B1B0-B60ADBE8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40FD-95D2-4104-8BF0-D5233C24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4277-A786-4BDA-9051-CB53864A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15B-957A-4DF1-AF63-635CDB22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1704-C898-4352-93FE-380DD121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D92-7DB8-49DA-9E6E-DEA349AC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169C-3CBD-4AB2-9840-AB528433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FEF6-95BC-44A5-9586-A16FD281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1EEF-EB76-465E-ADF5-359E428A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258A-54EB-4A13-8049-78A009072AC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C4E4-6923-47DA-8AA8-D7846A76C43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lingualis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urrent debates/issues in bilingualis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dels’ are linked to ‘outcomes’, but whose interests do these outcomes serv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do education systems cope with the increasing move towards globalisation and the changing ‘ethnoscapes’ (Appadural, 1990, cited in Martin-Jones,2007:176) of cities and countri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are children best supported in schools and other educational institution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rom your reading and other sources, can you define these term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imultaneous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equential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ctive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btractive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ult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no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ey ter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Bilingualism – control over two langu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imultaneous bilingualism – acquiring two languages at the same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equential bilingualism – learning one language after the first has been acqui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btractive bilingualism – when neither language is fully learnt (does this exist?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ultilingualism – control over more than two langu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onolingualism – control over one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dvantages/disadvantages do bilinguals have in British societ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dvantages/disadvantages do bilinguals have in global term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factors influence bilinguals’ choices of which language to us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do people become bilingua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rther/higher edu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e to a different coun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ner speaks a different langu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require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ringing up children bilinguall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31334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Read the following problems/scenarios and with your group decide on the best answer/respons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a new language in scho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els’ of bilingual educati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immersion (e.g. Canad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guage separation (monolingual spac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urrent language (code switch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guage support in L1 cla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bilingual education programme in Texa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fore you rea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percentage of people in Texas use Spanish as their first language, do you think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r child or sibling went to school in Texas, what language would you like him/her to be schooled i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you think it would be acceptable for children to receive their education only in Spanish in Texa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ding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model of bilingual education has Texa traditionally us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is the new model of bilingual educatio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criticisms of the traditional model, according to the article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advantages of the new model, according to the articl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is your opinion on which model should be adopted?  Do you know which model is current in UK schoo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8-11-17T15:24:1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