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F4A4-2AB4-45D7-BF2D-33380289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FC2B-A69B-4159-BDF7-6E98F4D9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E8E1-9B09-4EF1-BFB1-EE24D3D1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6DDD-8B01-4600-9CC8-693A82E9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1FE3-D3CC-4C77-A967-1F8CE7D4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D171-91D8-4FCB-9645-FA88A823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36EE-781C-4D99-84D7-7CC1BCAF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B546-556A-40D2-AB2E-C2942B26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10AC-747B-404C-9211-C9AD252C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83AD-17A6-4ADA-B40B-B353DD2A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F9D7-A2DF-4DCB-9F7F-7CA95740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DFEC-1AA9-45C7-8066-EC010C38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EF2A-C852-4D1E-9629-365184DF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9C60-4AF4-4536-99B4-3B250350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40E9-5EE7-4552-8170-C7FDC3B9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4A73-BD4A-4A68-8D95-62B0B641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32DA-4301-44BA-9E12-C3B8287E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8043-A39E-483B-8364-B3A2A76B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B289-9443-4203-9346-9544AF31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6620-B631-49F2-9E82-6923D23B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F7E6-D1C5-412F-AD8F-6353745F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941A-87EF-445C-95DC-31486E0F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2411-EAAD-4F49-8D6C-9230DF6A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0B34-F3EE-42A8-886B-4B141461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D58B-D61E-4D0C-A8C0-657E70454647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170C-987D-4977-948F-A640BBAAB2F2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ommunicative Language Teach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Showcard Gothic"/>
              </a:rPr>
              <a:t>Okanj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stuto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Y5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Kohii         Y4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--------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 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Y 900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7280" y="2492280"/>
            <a:ext cx="5816880" cy="25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mimasen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nets of CL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cus o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us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language rather than on knowing about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nguage is presented in a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put i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odifi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cus o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ean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language rather than on for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stakes are welcomed and not always correc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uthentic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terials are introduc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Interac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ir and group wor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r skills and four syste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brief history of ELT pedagog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Grammar transla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metho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grammar and vocabul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written texts chosen because they present particular grammatical patter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accuracy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achers use learners’ L1 to deliver the less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arners do exercises rather than tasks and activ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arners will often be preparing for a test rather than to use the language to communica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(Still prevalent in many classrooms throughout the world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udio-lingual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rived from Skinner’s theories of language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haviour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ed by US army (Korean wa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truction in L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illing, accuracy, correct pronunciation, question/response, oral before written, ‘over-learning’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t-based teach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jects are taught through the target language (e.g. histor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cus on meaning and communication rather than on accura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y hours of expos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ent provides meaningful and comprehensible inpu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(Much ‘bilingual’ teaching follows this approach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inge methods’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Silent Wa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uggestopedia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(Small class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munity Language Learning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(Must know L1 and L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tal Physical Response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(Young Learn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urrent pedagog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sk-based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xical appro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P/ES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mer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t Method’ 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this mea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it imply in terms of choosing teaching approach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Brown suggest is more useful than ‘methods’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c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-1239840"/>
            <a:ext cx="9144000" cy="80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6040" y="1206360"/>
            <a:ext cx="621684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48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79640" y="1662120"/>
            <a:ext cx="496872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62040" y="2362320"/>
            <a:ext cx="44452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976400" y="2760840"/>
          <a:ext cx="5416560" cy="30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6400" y="2760840"/>
                    <a:ext cx="5416560" cy="30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31687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5616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11-25T08:30:1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