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872-5C34-4FF4-98BF-25AEA50F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355-1715-427A-8996-62ED0C17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2FB3-2CC1-4F94-B837-26956CF3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7530-A62B-4EB8-80B9-76C8BB98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A0B8-E020-4570-81BB-263EA70B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37F7-6104-44A9-9E7D-FF03C2F7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E5F1-2C46-4E4C-9A7E-A9E301E7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5377-0BD8-4579-BDB3-3AAD3E6F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6E6B-CBDC-4918-903F-20A55F29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1EB3-03D9-4D48-A473-BCF3680A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6D9B-9701-4F48-9D98-C61EFC9F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BBEE-8ECE-40DC-9AEB-8A880FE3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658C-DAC5-4331-8DB3-2BB9756A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4D02-3606-419B-B100-11FF66E8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E1AC-DFD4-4AB8-B5C9-C92E10B6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5A52-807B-4CE8-A515-9FAF88E3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321A-2B80-4881-980E-0E5F48E9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A3A-2481-4BC3-BAC1-35ED8F9D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3968-DD2E-4E64-BD71-BD5C88CB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31A3-D707-4C82-B1FF-C3B56CB4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6A9-106A-4237-BB6A-E8E4FEB7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845-56F1-4530-8316-6F7B292F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EEC-8A85-40BD-9221-B4320949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823-6157-4B8F-8F3E-AEEB2953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B576-A12B-4BBD-9455-96658559BA5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1F9E-8F6A-43C2-89CB-EE1280B567E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lingualis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urrent debates/issues in bilingualis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dels’ are linked to ‘outcomes’, but whose interests do these outcomes serv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do education systems cope with the increasing move towards globalisation and the changing ‘ethnoscapes’ (Appadural, 1990, cited in Martin-Jones,2007:176) of cities and countri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are children best supported in schools and other educational institution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rom your reading and other sources, can you define these term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imultaneous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equential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ctive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btractive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ult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no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ey te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ilingualism – control over two langu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imultaneous bilingualism – acquiring two languages at the same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equential bilingualism – learning one language after the first has been acqui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btractive bilingualism – when neither language is fully learnt (does this exist?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ultilingualism – control over more than two langu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nolingualism – control over one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dvantages/disadvantages do bilinguals have in British societ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dvantages/disadvantages do bilinguals have in global term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factors influence bilinguals’ choices of which language to us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do people become bilingua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rther/higher 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e to a different cou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ner speaks a different langu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require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ringing up children bilinguall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31334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Read the following problems/scenarios and with your group decide on the best answer/respons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a new language in scho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ls’ of bilingual educat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immersion (e.g. Canad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guage separation (monolingual spac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urrent language (code switch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guage support in L1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bilingual education programme in Tex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fore you rea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percentage of people in Texas use Spanish as their first language, do you think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r child or sibling went to school in Texas, what language would you like him/her to be schooled i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you think it would be acceptable for children to receive their education only in Spanish in Tex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model of bilingual education has Texa traditionally u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is the new model of bilingual educatio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criticisms of the traditional model, according to the article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advantages of the new model, according to the articl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is your opinion on which model should be adopted?  Do you know which model is current in UK schoo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1-17T15:24:1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