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A37-2F25-4FB5-868E-50A82441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839-3E0E-46D4-BD04-60305D54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1BE-831E-45AE-B345-8FAED44D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F4F-1654-47C0-81FA-A647D475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321B-D63C-4C76-BF25-C194701A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451F-E2D8-46C4-9469-0EF0968E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1F30-FE84-4B97-AA8F-16E655B1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7766-C725-44F4-9989-C87BB604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6A93-0308-4F91-B59D-3A0AF938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589B-FC37-4A6B-9F25-74198866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054F-0675-43D9-9DD7-9662BBBE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8AD-C729-4EBD-B9F6-77075A68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E141-0982-418F-813A-DF46FFFA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C672-3B02-4C74-9CBC-A41B65DB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2B9B-1EEC-4A58-910C-A540C444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FC54-DDAF-4D16-B696-9BB69B41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6B13-F06E-4B9A-83EA-BDD68A12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4C3-8729-472F-92BD-C7003829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E8C-1879-4D07-9CA6-65EDC4AF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1E4-9FE7-43BE-A490-66D4723D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C38-37B3-466C-83BB-7B586714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F71-36FE-4CE7-92C5-7B96B50D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5E3-6AE0-4FEC-97FB-9E594446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EC4-1032-45AB-8548-1EE92A88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30BF-B582-4726-99D3-2D2DB80F4DE9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3E0B-ADA8-4CE3-B9FA-D0D8E3E75A46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municative Language Teach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Showcard Gothic"/>
              </a:rPr>
              <a:t>Okan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stut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5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Kohii         Y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-------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 900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2492280"/>
            <a:ext cx="5816880" cy="25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mimase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nets of CL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s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anguage rather than on knowing about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guage is presented in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put 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odif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ean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language rather than on fo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stakes are welcomed and not always correc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uthenti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erials are introduc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tera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ir and group 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 skills and four syste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brief history of EL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Grammar transl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etho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grammar and vocabul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written texts chosen because they present particular grammatical patter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accurac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achers use learners’ L1 to deliver the les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do exercises rather than tasks and activ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will often be preparing for a test rather than to use the language to communica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Still prevalent in many classrooms throughout the worl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dio-lingual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rived from Skinner’s theories of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haviour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by US army (Korean w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ruction in L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illing, accuracy, correct pronunciation, question/response, oral before written, ‘over-learn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-based teach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are taught through the target language (e.g. histo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meaning and communication rather than on accur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hours of expo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 provides meaningful and comprehensible inp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(Much ‘bilingual’ teaching follows this approach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inge methods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Silent W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ggestopedia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Small class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ty Language Learning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Must know L1 and L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Physical Response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Young Learn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xical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P/ES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r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 Method’ 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this mea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it imply in terms of choosing teaching approach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Brown suggest is more useful than ‘methods’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c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39840"/>
            <a:ext cx="9144000" cy="80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6040" y="1206360"/>
            <a:ext cx="62168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1662120"/>
            <a:ext cx="49687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62040" y="2362320"/>
            <a:ext cx="4445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6400" y="2760840"/>
          <a:ext cx="5416560" cy="30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760840"/>
                    <a:ext cx="541656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168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61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1-25T08:30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