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C79C-E9F1-4F5C-98EA-2E5C8A4E7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57F2-9A0D-4B00-83AC-F61992C0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046F-A39B-401D-8873-DCB31712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CE83-D6DE-477F-84CC-7F73DF54A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ED2D-46BE-4CB4-91D5-0F621764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7356-526C-4380-95C9-68DC4544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625A-A4F9-4203-BE41-B96EBAEE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E0E7-77D7-4BA6-8BEB-A7069B8B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7BB0-A33E-4021-BA43-69F60605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856B-9899-4A04-8323-01C6D8DA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D3A3-197A-4477-B667-D4F09F9C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0C93-90D9-4600-8346-9D8CFF42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4C54-C50B-4BB8-8F85-2D1901E3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0707-9CEF-4152-B557-BD526A6A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3BCF-1036-433A-96EC-7FEE0DF9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7C88-2022-463E-9AE9-9B9275A01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B5A7-C878-4A2A-81DE-1C57E7E3C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A9FC-6CCD-47D6-A901-2A30DDCB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F904-F7D6-443F-B128-EA333B4D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6EDD-FED0-46B6-9B88-43670422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76D9-ABC8-4F8B-818D-1CBE709C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2ABA-F560-46C0-9056-11B9468D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03A4-FB65-4165-9761-46605706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AF35-1A5B-4542-BC55-C31A77F5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58BA-97F7-482E-B421-46D257B3A2E1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97BC-DB05-476E-8D38-4DDD017134CF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k.youtube.com/watch?v=37ssHa0Vqwg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_sdXQKc31AY" TargetMode="External"/><Relationship Id="rId2" Type="http://schemas.openxmlformats.org/officeDocument/2006/relationships/hyperlink" Target="file:///Learning%20L1.ppt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How people learn their first langua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Session 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ow we learn our first langua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as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ad through your text and answer the questions with other members of your group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each’ members of your new group what you have lear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iscuss the group questions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Oh yeah bab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at seems to be the underlying theory of language acquisition applied by this auntie?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uk.youtube.com/watch?v=37ssHa0Vqw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81840" y="7578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oddlers get  help with talk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Read the article from the BBC websi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are the reasons given in the article for children’s poor language developmen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help can be given to children who have poor communication skill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Does this report surprise you in any way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evelopmental sequen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orphe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g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Order of Acquisition (morphemes)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Put these into the order that children acquire them…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Possessive ‘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838080" y="27432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Auxiliary ‘be’ (he is coming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838080" y="312408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Present progressive (mummy coming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838080" y="3505320"/>
            <a:ext cx="4648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838080" y="35053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Copula (Jane is a nice girl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838080" y="38862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Third person singular (he run</a:t>
            </a:r>
            <a:r>
              <a:rPr b="1" i="1" lang="en-GB" sz="18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838080" y="42670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Plural s (two books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838080" y="46483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Regular past (she walk</a:t>
            </a:r>
            <a:r>
              <a:rPr b="0" i="1" lang="en-GB" sz="1800" spc="-1" strike="noStrike">
                <a:solidFill>
                  <a:srgbClr val="003366"/>
                </a:solidFill>
                <a:latin typeface="Arial"/>
              </a:rPr>
              <a:t>ed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838080" y="50292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Irregular past (she wen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914400" y="541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Articles ‘the’ and ‘a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ctual or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esent progress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lural 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rregular past for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ossessive ‘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Copul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rtic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Regular pa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hird person singul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uxiliary ‘be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Neg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ive forms of negation in English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ot (‘n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gative words (nobod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o before nouns (no books are availabl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gative adverbs (nowhere/neve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gative prefixes (dis/non/u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tages of neg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Opposition to a proposition (10 -14 months shaking hea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No (first fifty word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Negative + X (no go, no book, no ketchup/not go, not book, not ketchup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ubject + no + X (Mummy no/not go park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More complex sentences/other negations (I don’t like it).  NB. Early on, ‘no’ and ‘not’ interchangeable with ‘don’t’ and ‘can’t’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Negatives of more auxiliary verbs (aren’t/doesn’t/isn’t) and past tense form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ising intonation (Rosie button?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at? (Whatsit?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ere? Who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ow?  Whe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ot dogs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Tas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Note down as much as you can of what the little girl say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ook back at your notes on child language learning: what can this child do/not do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at do you expect her to learn next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youtube.com/watch?v=_sdXQKc31A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Rectangle 4">
            <a:hlinkClick r:id="rId2"/>
          </p:cNvPr>
          <p:cNvSpPr/>
          <p:nvPr/>
        </p:nvSpPr>
        <p:spPr>
          <a:xfrm>
            <a:off x="990720" y="5638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How do people learn their first language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ree influential theories are: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ehaviour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ativism (Innatis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ociolinguistic (Interactionis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ys1</cp:lastModifiedBy>
  <dcterms:modified xsi:type="dcterms:W3CDTF">2009-12-14T19:07:3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