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81C8-EADA-497B-BEFF-DE35F6780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4EF6-A45F-4551-969F-ED7532BD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CE48-4C3A-4162-AF36-C9AAB6F9B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C436-1BB2-4F72-9EA0-E3ACCDF60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F3D0-9941-4636-A11B-D5F70949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9EE4-1FB2-4696-9EEE-9C552EA5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FBE9-B1B5-49CA-8BE2-C5730EA1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D1A0-C2DC-4112-B797-C5B9AC3C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C266-5DC6-46B1-AA8D-38420D96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376E-00CA-498B-9471-4426EBC1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3D3B-A33B-41AC-A376-2FCC63C1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EE9E-C63D-47E0-B63D-6DBA5136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2EDA-349F-45A9-819B-F002225E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2196-0F4C-406E-831B-BE6C9F36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C0B4-9FD8-40B3-8A11-ADDEAB3E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5433-1DD1-4D9B-86D4-6895773DE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657D-AA0E-48AE-8468-D0FF5D68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99C2-4D5A-49A3-AA78-AB8E85E8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58F6-E3E8-4897-9E27-01695B02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4426-18E1-40B0-A2DB-B2925C58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93F6-8349-400A-A4A4-17A07841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D037-CEBB-455B-99B3-5A3D2F91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C9B5-29B0-41C2-AF4D-6D0FBFD1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5849-72D9-4780-9C5A-0D78B5FE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6800-7BBB-4F00-AD7B-A7BA8CE329F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45D2-3ADB-450A-B4E4-13787585BCD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ilingualis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urrent debates/issues in bilingualis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odels’ are linked to ‘outcomes’, but whose interests do these outcomes serv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 do education systems cope with the increasing move towards globalisation and the changing ‘ethnoscapes’ (Appadural, 1990, cited in Martin-Jones,2007:176) of cities and countri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 are children best supported in schools and other educational institution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rom your reading and other sources, can you define these terms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imultaneous 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equential 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ctive 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ubtractive 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ult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ono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ey ter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Bilingualism – control over two langu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imultaneous bilingualism – acquiring two languages at the same 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equential bilingualism – learning one language after the first has been acquir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ubtractive bilingualism – when neither language is fully learnt (does this exist?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Multilingualism – control over more than two langu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Monolingualism – control over one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dvantages/disadvantages do bilinguals have in British societ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dvantages/disadvantages do bilinguals have in global term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factors influence bilinguals’ choices of which language to us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do people become bilingua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hoo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rther/higher educ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ve to a different count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ner speaks a different langu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k requirem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ringing up children bilinguall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31334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Read the following problems/scenarios and with your group decide on the best answer/respons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rning a new language in schoo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dels’ of bilingual educatio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tal immersion (e.g. Canad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guage separation (monolingual spac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urrent language (code switch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guage support in L1 class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 bilingual education programme in Texa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fore you read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percentage of people in Texas use Spanish as their first language, do you think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your child or sibling went to school in Texas, what language would you like him/her to be schooled i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 you think it would be acceptable for children to receive their education only in Spanish in Texa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ading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model of bilingual education has Texa traditionally us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is the new model of bilingual educatio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are the criticisms of the traditional model, according to the article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are the advantages of the new model, according to the articl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is your opinion on which model should be adopted?  Do you know which model is current in UK school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cation Staff</cp:lastModifiedBy>
  <dcterms:modified xsi:type="dcterms:W3CDTF">2008-11-17T15:24:1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