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CE21-0C6F-471C-BB17-FA696BA3C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8D0F-5874-4E02-A8EC-65A979C19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83AC-A7DA-44D1-AD17-4B38912F3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CAB4-80A2-452D-8AAF-F472BEEB0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53CD0-7469-40AC-817E-43CAA0F49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D8637-23E4-4B83-AD0F-EB585A931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A7A37-9B5B-4CE3-8F2C-F7CA3788B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53F74-EDAD-4FBE-8BFE-740CEDD72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D8EC1-5A3A-4CA5-813F-65DE453BA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F7C32-76D8-4B15-958B-F1D141FC0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D2AC7-9DD9-418D-B300-FF20F7F5D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5395-D526-4414-9796-E760945B2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55F53-3E76-4FB9-9A59-E22E623E5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663EE-2BFD-4EC0-AA0D-06097FBC9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53DB1-56EF-423C-BE33-870C39CD6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23912-DF6C-4ABF-9064-C805E5C7B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E49D4-8A77-414A-B9CE-A9C36DA97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4DF5-F009-400A-A111-E17CBADE9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78B1-4AF4-47AF-B63D-6641CA6B9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A94F-0A3B-417C-A3FD-AD12BB560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661C-56FA-4BCD-AF4B-BF7899E24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3988-667D-4BE3-A57F-622BA161E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17F7-C064-4151-9934-4AF1C5B36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5F0A-9424-49D8-A63D-FA76DBF8E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563D5-2ECF-4038-B469-94FD185605F5}" type="slidenum">
              <a:rPr b="1" lang="en-GB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4528C-EA5B-471E-84FB-3E7227291BF1}" type="slidenum">
              <a:rPr b="1" lang="en-GB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Learning English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ommunicative Language Teaching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Showcard Gothic"/>
              </a:rPr>
              <a:t>Okanj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                  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ostuto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Y50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                  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Kohii         Y40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---------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                                     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Y 900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187280" y="2492280"/>
            <a:ext cx="5816880" cy="25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sumimasen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enets of CL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8077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ocus on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using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language rather than on knowing about languag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anguage is presented in a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contex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put is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modifie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ocus on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meaning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of language rather than on for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istakes are welcomed and not always correcte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Authentic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aterials are introduce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Interactiv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air and group wor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our skills and four system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 brief history of ELT pedagogi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Grammar translation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method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ocus on grammar and vocabula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ocus on written texts chosen because they present particular grammatical pattern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ocus on accuracy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eachers use learners’ L1 to deliver the less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earners do exercises rather than tasks and activiti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earners will often be preparing for a test rather than to use the language to communicate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666"/>
                </a:solidFill>
                <a:latin typeface="Arial"/>
              </a:rPr>
              <a:t>(Still prevalent in many classrooms throughout the world.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udio-lingual metho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rived from Skinner’s theories of language learn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ehaviouris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veloped by US army (Korean war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struction in L2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rilling, accuracy, correct pronunciation, question/response, oral before written, ‘over-learning’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ntent-based teach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ubjects are taught through the target language (e.g. history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ocus on meaning and communication rather than on accurac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any hours of exposu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ntent provides meaningful and comprehensible input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66"/>
                </a:solidFill>
                <a:latin typeface="Arial"/>
              </a:rPr>
              <a:t>(Much ‘bilingual’ teaching follows this approach.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‘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ringe methods’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he Silent Way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Suggestopedia </a:t>
            </a:r>
            <a:r>
              <a:rPr b="0" i="1" lang="en-GB" sz="2800" spc="-1" strike="noStrike">
                <a:solidFill>
                  <a:srgbClr val="006666"/>
                </a:solidFill>
                <a:latin typeface="Arial"/>
              </a:rPr>
              <a:t>(Small classe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Community Language Learning </a:t>
            </a:r>
            <a:r>
              <a:rPr b="0" i="1" lang="en-GB" sz="2800" spc="-1" strike="noStrike">
                <a:solidFill>
                  <a:srgbClr val="006666"/>
                </a:solidFill>
                <a:latin typeface="Arial"/>
              </a:rPr>
              <a:t>(Must know L1 and L2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otal Physical Response </a:t>
            </a:r>
            <a:r>
              <a:rPr b="0" i="1" lang="en-GB" sz="2800" spc="-1" strike="noStrike">
                <a:solidFill>
                  <a:srgbClr val="006666"/>
                </a:solidFill>
                <a:latin typeface="Arial"/>
              </a:rPr>
              <a:t>(Young Learner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urrent pedagogi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ask-based learn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exical approac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AP/ESP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mmers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‘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ost Method’ er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does this mean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does it imply in terms of choosing teaching approache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does Brown suggest is more useful than ‘methods’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ict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-1239840"/>
            <a:ext cx="9144000" cy="809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616040" y="1206360"/>
            <a:ext cx="6216840" cy="44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755640" y="1700280"/>
            <a:ext cx="748836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979640" y="1662120"/>
            <a:ext cx="4968720" cy="46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843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462040" y="2362320"/>
            <a:ext cx="444528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976400" y="2760840"/>
          <a:ext cx="5416560" cy="306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6400" y="2760840"/>
                    <a:ext cx="5416560" cy="30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700360" y="1844640"/>
            <a:ext cx="3168720" cy="43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979640" y="2133720"/>
            <a:ext cx="561672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SA</cp:lastModifiedBy>
  <dcterms:modified xsi:type="dcterms:W3CDTF">2008-11-25T08:30:10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