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C18-F321-4174-A70E-132E6C23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D7F-DF25-4E50-85A1-6696AB24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8A5-DBC9-48AC-8636-5A2B1083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A07-E950-46F3-B70D-60E0673D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6A3D-F519-45BA-A739-FF078310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B475-2EB6-44FB-B46B-7DEC59A3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90E1-6E13-4FD1-9A3C-EC8C0182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A4D8-1BD7-4BFC-89CD-1A80905A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0585-9EAE-4334-ABA1-B22C978D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2053-4352-44FD-AD86-4AD84FFA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E1F0-13A7-4A88-B3E5-3148992C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34D-7BF0-4786-A442-130E1633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64A4-9A6D-4CB1-B7DB-7373C52F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383D-74BA-4274-8138-64E0F5A9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9D8A-29AA-49EF-B9AB-33004B61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84DE-5E04-4F96-A56E-9D3DE1F9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23E5-FE42-4CD1-AEC0-3CE67CC6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2AB-E17B-414F-8E63-3771165F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D3F-205B-4157-827D-53E3C822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47D-9E90-4F7C-84C1-223561CE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E0B-D0A2-4F9F-8AF1-03C09F4E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B0B-D0FD-4B33-ABA9-E7F9686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DB1-9849-4C36-BAB3-297E7797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F31-439A-4111-80D0-1CE21AE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4BE8-9315-41E1-8FF4-A98BEEC4C9B9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E300-54B9-48AE-B9F0-9565E92A520E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sdXQKc31AY" TargetMode="External"/><Relationship Id="rId2" Type="http://schemas.openxmlformats.org/officeDocument/2006/relationships/hyperlink" Target="file:///Learning%20L1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ow people learn thei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ession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 learn ou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 through your text and answer the questions with other members of your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’ members of your new group what you have lear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uss the group questions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1840" y="7578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ddlers get  help with tal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 the article from the BBC web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reasons given in the article for children’s poor language develop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help can be given to children who have poor communication skil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es this report surprise you in any wa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al sequ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phe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Order of Acquisition (morphemes)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Put these into the order that children acquire them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743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uxiliary ‘be’ (he is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t progressive (mummy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3505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5053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pula (Jane is a nice gir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886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ird person singular (he run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38080" y="4267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lural s (two book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8080" y="4648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gular past (she walk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38080" y="5029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rregular past (she w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14400" y="541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rticles ‘the’ and ‘a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ctual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ural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regular past 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pu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r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d person singu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xiliary ‘b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forms of negation in Englis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(‘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words (nobod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 before nouns (no books are availa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adverbs (nowhere/nev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prefixes (dis/non/u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ges of 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pposition to a proposition (10 -14 months shaking he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(first fifty wo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 + X (no go, no book, no ketchup/not go, not book, not ketchup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ject + no + X (Mummy no/not go pa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sentences/other negations (I don’t like it).  NB. Early on, ‘no’ and ‘not’ interchangeable with ‘don’t’ and ‘can’t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s of more auxiliary verbs (aren’t/doesn’t/isn’t) and past tense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ising intonation (Rosie button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? (Whatsi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re? Wh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?  W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t do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e down as much as you can of what the little girl s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ok back at your notes on child language learning: what can this child do/not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do you expect her to learn nex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_sdXQKc31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2"/>
          </p:cNvPr>
          <p:cNvSpPr/>
          <p:nvPr/>
        </p:nvSpPr>
        <p:spPr>
          <a:xfrm>
            <a:off x="99072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do people learn their first languag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ree influential theories ar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tivism (Innatis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ciolinguistic (Interaction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ys1</cp:lastModifiedBy>
  <dcterms:modified xsi:type="dcterms:W3CDTF">2009-12-14T19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