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FBB1-A3B4-412C-85AA-83157099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06A9-292C-4EC0-BA9F-CD00F6BE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DAD7-4A46-4EC0-AC6A-67FE7A3B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44F5-A88F-4743-BDF5-FE1532F3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7B35-B9ED-4200-9D24-E49C15453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F815-93FF-4669-B42F-2E3A9BA9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982D-A76C-4C08-9DC4-3A568CC2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6537-4661-495D-BA23-D3E4F9CD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0170-9BAD-4DCC-8E14-B2EFE6E5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8F2A-72C1-4FF1-BF16-138AA054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BCD7-9451-48C0-AEC7-54BA80F5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8D27-9630-436F-B49C-68A205D5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70D5-D296-4801-BE49-2E599D59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7E8F-819F-4A3F-99B9-EBD034CC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565F-9232-4C4F-AFA5-1415E023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2566-178F-4BE9-81F0-2B35B528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8F89-81CA-44F7-A602-0DFF057C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CB65-A407-4696-B799-55143EAD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41E8-D40C-49D5-A9AB-D28B8C28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BC75-C976-47F8-BE61-929F07B1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7299-8AD8-4567-81AA-9315DC9D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CBE7-2218-4C7B-A067-D1DD713E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C268-1F8A-4B7F-8DCF-80785665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FE61-7BF2-4221-B32B-2B65C618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7A78-DD26-46B8-BCFC-E2AC4B462BB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BCB7-518D-449C-9DFB-31C0D0D3943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lingualis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urrent debates/issues in bilingualis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dels’ are linked to ‘outcomes’, but whose interests do these outcomes serv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do education systems cope with the increasing move towards globalisation and the changing ‘ethnoscapes’ (Appadural, 1990, cited in Martin-Jones,2007:176) of cities and countri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are children best supported in schools and other educational institution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rom your reading and other sources, can you define these term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imultaneous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equential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ctive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ubtractive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ult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no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ey ter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Bilingualism – control over two langu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imultaneous bilingualism – acquiring two languages at the same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equential bilingualism – learning one language after the first has been acquir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ubtractive bilingualism – when neither language is fully learnt (does this exist?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ultilingualism – control over more than two langu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onolingualism – control over one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dvantages/disadvantages do bilinguals have in British societ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dvantages/disadvantages do bilinguals have in global term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factors influence bilinguals’ choices of which language to us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do people become bilingua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rther/higher edu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ve to a different coun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ner speaks a different langu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 requirem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ringing up children bilinguall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31334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Read the following problems/scenarios and with your group decide on the best answer/respons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a new language in scho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dels’ of bilingual educati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immersion (e.g. Canad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guage separation (monolingual spac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urrent language (code switch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guage support in L1 clas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 bilingual education programme in Texa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fore you rea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percentage of people in Texas use Spanish as their first language, do you think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r child or sibling went to school in Texas, what language would you like him/her to be schooled i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 you think it would be acceptable for children to receive their education only in Spanish in Texa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ading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model of bilingual education has Texa traditionally us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is the new model of bilingual educatio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are the criticisms of the traditional model, according to the article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are the advantages of the new model, according to the articl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is your opinion on which model should be adopted?  Do you know which model is current in UK school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8-11-17T15:24:1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