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12CD-8EB4-48AA-9F19-2264C117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DCFA-9F11-4E07-BB3A-37556B17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0DB3-29D9-47FC-851A-CA3EFAC7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9276-61F3-4BD0-BEE5-7E3DFBA6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F0B8-A415-4209-86DD-3B2B9042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26A4-9089-4B16-B94C-B17DBE1A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C0B9-A9CD-4859-871C-089EDF85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AC33-72EC-4F78-A35C-FCA6DAAD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6826-474D-4ED6-BEB3-20E81BFB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04ED-FD51-4D86-A5C7-F1161EC3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D8F9-A3A2-4BFC-84C9-E4611ED9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7D9-DD7F-4CD3-9C9D-E97A09CA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7F6A-FA71-4BCC-A4D9-0187A584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B430-224B-4467-9C7B-4BD0F0C3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1BE6-3656-4609-8777-65397D6F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AD9C-32A3-456C-B8DD-D116122F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9DA8-303A-4F26-B4D3-B97851D6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FA7C-F073-4301-9926-85920E0C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4F8B-F79C-4F72-A0C6-3D28CE5C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0803-3940-4FEA-B5FC-017D193E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0C7E-D7BA-40E4-8110-6D4B552A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BD7B-C9A2-46AD-AAE5-80654344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58AF-28CF-4F38-8C05-02DC26F1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7180-686F-4006-918D-A21415C0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76D1-42E7-40C7-BB21-6818FF8CD6F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5AD9-3F9D-41A3-8D47-6CFD6ECEECD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lingualis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urrent debates/issues in bilingualis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dels’ are linked to ‘outcomes’, but whose interests do these outcomes serv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do education systems cope with the increasing move towards globalisation and the changing ‘ethnoscapes’ (Appadural, 1990, cited in Martin-Jones,2007:176) of cities and countri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are children best supported in schools and other educational institution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rom your reading and other sources, can you define these term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imultaneous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equential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ctive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ubtractive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ult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no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ey ter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Bilingualism – control over two langu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imultaneous bilingualism – acquiring two languages at the same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equential bilingualism – learning one language after the first has been acquir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ubtractive bilingualism – when neither language is fully learnt (does this exist?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ultilingualism – control over more than two langu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onolingualism – control over one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dvantages/disadvantages do bilinguals have in British societ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dvantages/disadvantages do bilinguals have in global term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factors influence bilinguals’ choices of which language to us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do people become bilingua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rther/higher edu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ve to a different coun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ner speaks a different langu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requirem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ringing up children bilinguall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31334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Read the following problems/scenarios and with your group decide on the best answer/respons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a new language in scho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els’ of bilingual educati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immersion (e.g. Canad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guage separation (monolingual spac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urrent language (code switch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guage support in L1 clas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 bilingual education programme in Texa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fore you rea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percentage of people in Texas use Spanish as their first language, do you think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r child or sibling went to school in Texas, what language would you like him/her to be schooled i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 you think it would be acceptable for children to receive their education only in Spanish in Texa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ading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model of bilingual education has Texa traditionally us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is the new model of bilingual educatio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are the criticisms of the traditional model, according to the article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are the advantages of the new model, according to the articl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is your opinion on which model should be adopted?  Do you know which model is current in UK school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8-11-17T15:24:1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