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8974B-A18C-454E-9F8B-D7BB281CA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D8BBC-5D9A-4C7A-A8AE-7FF397F23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597EF-0AB4-4391-B8EA-C1F9A46F1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8C16A-63A8-4578-905D-F7CB625E7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0B1B3-5D99-4F13-9154-DEC99360A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05AC0-7C89-4DAB-B22D-777F7AE9D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5A13B-1393-432F-B19C-F565C6921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11603-00DA-4774-A7F2-8A03CB15D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56DF4-15DD-4B79-8DF9-4A70FDDB8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22567-5DB1-485C-88C8-5FD4D2ED7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28F0E-CA47-4157-928D-F69637071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CDF3A-E31F-4230-83CD-5EFC21E6E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13A68-1FFF-4604-8F82-CED9BACCF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9AB09-F60D-4C53-AF0A-147DAE019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7D59A-5523-4149-9904-E6E230A63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5AAEE-22DC-45D6-8B81-298C190D2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24B03-4C25-4CF2-887D-F2D4067CA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CDF88-A6D6-43DD-8FD5-D958A497C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726EE-F84F-4F09-8796-C2D19D441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01830-1727-4FC5-B7C5-9C612D084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DE260-CFF5-47AB-A4B8-78F6541F9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14BD5-2596-441C-9E19-4C7D160DC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B7DC9-B801-4DB7-8DAD-664001332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81211-7C9B-4A67-AFCD-B4F6D0B22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AABAB-8477-4346-A323-A397A34E295D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7BBC9-0F78-4224-852E-19B456B2577A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The assignment revisited: interviewing and troubleshooting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Learning English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Basic Interviewing Skill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76964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Ensure the interviewee is comfortabl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Explain the purpose of the study  and give assurance of confidentialit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Ask permission to record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Ask a series of ‘easy’ questions to start with (e.g. where are you from/how long have you been in England/at Aston?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Give the interviewee time to answer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on’t talk over the interviewe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nk about the kind of questions you ask (open/closed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Be interested in the interviewee’s answers and respond to thes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An interview is a social encounter: demonstrate interest in the interviewee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Different kinds of interview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pe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mi-structure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tructure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emi-structured interview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terviewer has a list of topics or questions to be covere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terviewer can ask other questions not on the list or can ‘probe’ to get an expanded response e.g. a follow up question, a period of silence, back channell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 interview can go ‘off track’ for some tim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What is a ‘case study’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761760" y="2361960"/>
            <a:ext cx="7769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‘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evelopment of detailed, intensive knowledge about a single ‘case’, or of a small number of related cases’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(Robson 2002:89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‘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Individual case study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Detailed account of one person.  Tends to focus on antecedents, contextual factors, perceptions and attitudes preceding a known outcome (e.g. drug use; immigrant status).  Used to explore possible causes, determinants, factors, processes, experiences etc., contributing to the outcome.’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                               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(Robson 2002:181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Robson C. 2002.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Real World Research.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2</a:t>
            </a:r>
            <a:r>
              <a:rPr b="0" lang="en-US" sz="2000" spc="-1" strike="noStrike" baseline="30000">
                <a:solidFill>
                  <a:srgbClr val="003366"/>
                </a:solidFill>
                <a:latin typeface="Arial"/>
              </a:rPr>
              <a:t>nd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Edition. Oxford: Blackwel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What to include in a Case Stud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Overview: why the cs is taking place; the issues being investigated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Procedures: how data were collected including access arrangements, resources available, schedule of meetings and so on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Report: divide into sections, for example –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educational and cultural background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purpose for studying English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experience of language learning in UK and at home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language learning preferences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literacy in different languages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attitude to English and its place in the world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attitudes to his/her bilingualism/multilingualism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         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recommendations (about how learner can develop his/her English with 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reference to skills and systems)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Reference list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Appendix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How to do well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Use the interview data/learner’s work to illustrate your point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Use the academic literature to develop your argument/substantiate a claim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Write clearly but formall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efer to reading/discussions from the module, where relevan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Use the learner’s output to inform your recommendations for improvement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Other consideration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emember, you need ethics approval BEFORE starting your research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nk about how to ensure your learner remains anonymou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clude a copy of your questions in the appendix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Jalal – Case Stud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What information does this case study offer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Comment on the style of writing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Why is the quotation included in ‘present situation’, do you think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Who are the ‘Points to Consider’ written for, do you think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SA</cp:lastModifiedBy>
  <dcterms:modified xsi:type="dcterms:W3CDTF">2008-12-08T17:58:44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