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7D34-5E63-41F8-B124-A754EE34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EBE-2DF5-4EBD-9F6C-18199526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C1B-974D-43B1-8BDD-340A7157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598-0AA0-4F6A-A871-058B404D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7668-42B7-408D-93E4-863577E3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2390-5F0F-4DE2-ABD4-0E1CCD26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4A24-1569-4F02-932A-7964ECA2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1808-6D09-4F31-8A78-72D37490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65CB-30F7-4FD0-922F-DAD001FF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C365-1D35-4AC1-B161-CD10769E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27FF-9822-4E40-9AE7-0E8E8C6F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D5B-5C9B-4244-ADE9-D9578461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1D68-4178-4D80-B7CE-20DC27A8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9F3D-8103-4573-9C66-1540EE88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1617-8D3A-40FB-80BD-321C801B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4EAE-20D5-4C8A-B966-D4BB67EB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501E-5DAB-4FD4-99BB-CC91E4FE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B7D-FC3E-49E1-BAE7-690EC585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32D-1E2B-48A6-8A29-C6DC1271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7E9-CF59-4C66-94A9-15B4D316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8AF-2A1C-40AA-AA2D-66A85355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D31-7D6A-4E36-B3BF-33F6159F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A21-0E5B-4284-897A-27BDBF70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377C-3253-484A-97E9-AD8E9778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171A-334E-471B-BA6B-FACB0ADA41E8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9B3F-EF47-4F82-848F-D351E41FF7D3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municative Language Teach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Showcard Gothic"/>
              </a:rPr>
              <a:t>Okanj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stut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5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Kohii         Y4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-------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 900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7280" y="2492280"/>
            <a:ext cx="5816880" cy="25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mimase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nets of CL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us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anguage rather than on knowing about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nguage is presented in 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put i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odif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ean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language rather than on fo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stakes are welcomed and not always correc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uthenti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terials are introduc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terac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ir and group 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r skills and four syste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brief history of ELT pedagog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Grammar transl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metho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grammar and vocabul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written texts chosen because they present particular grammatical patter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accurac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achers use learners’ L1 to deliver the less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ers do exercises rather than tasks and activ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ers will often be preparing for a test rather than to use the language to communica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Still prevalent in many classrooms throughout the world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dio-lingual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rived from Skinner’s theories of languag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haviour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ed by US army (Korean wa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ruction in L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illing, accuracy, correct pronunciation, question/response, oral before written, ‘over-learning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t-based teach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are taught through the target language (e.g. histor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meaning and communication rather than on accur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y hours of expo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ent provides meaningful and comprehensible inpu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(Much ‘bilingual’ teaching follows this approach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inge methods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Silent Wa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ggestopedia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Small class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unity Language Learning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Must know L1 and L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tal Physical Response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Young Learn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pedagog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xical appro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P/ES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er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t Method’ 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this mea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it imply in terms of choosing teaching approach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Brown suggest is more useful than ‘methods’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c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1239840"/>
            <a:ext cx="9144000" cy="80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6040" y="1206360"/>
            <a:ext cx="62168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48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79640" y="1662120"/>
            <a:ext cx="496872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62040" y="2362320"/>
            <a:ext cx="4445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76400" y="2760840"/>
          <a:ext cx="5416560" cy="30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760840"/>
                    <a:ext cx="541656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168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61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1-25T08:30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