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4D19-CB8B-4FED-AC1B-08F3BD27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CC78-7707-4F53-A0EB-6246B341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B323-4753-4665-A545-6C69B363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30E2-744C-4E73-AB03-1F1F3DDB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7661-08DA-40A6-AF8E-35BD8D52D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E0F0-F209-435A-8F47-93BA66B2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F242-4860-4FE6-A9BB-CFD5702A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C2D0-6AA8-4B6B-B2D2-1C831285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DA21-FD21-4756-8D33-6A2D58B5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11D3-FF2E-4A40-9D83-0237065E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0A36-D3A5-479B-8A18-FCA9C180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9CE9-925E-4A95-A758-ACBE2714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1272-EEFA-484D-BEC2-57F338BD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AF02-EFF5-453C-ADF9-944D2EC8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97E3-F0A4-4661-BF48-6AE56604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E667-0772-4302-9705-8372FB360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78CB-529C-4C3F-80CC-B971A55FA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5576-262F-4CD6-94CD-FAEBF4CE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A0FC-6AD0-4095-A0D5-1350B135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1927-2F43-490C-8DE5-6AA401CF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F744-4946-4A9C-A402-F3B98248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92B6-677B-4A8F-BAEB-EC461979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5549-60AC-4CCE-B4B6-F975909B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0B1C-4217-4404-875F-B635D93D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4A50-54CB-4D9A-8D22-5D8584149218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A973-AF4C-4162-AF00-F343727C8D87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k.youtube.com/watch?v=37ssHa0Vqwg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_sdXQKc31AY" TargetMode="External"/><Relationship Id="rId2" Type="http://schemas.openxmlformats.org/officeDocument/2006/relationships/hyperlink" Target="file:///Learning%20L1.ppt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How people learn their first langu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Session 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ow we learn our first langu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a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ad through your text and answer the questions with other members of your grou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each’ members of your new group what you have lear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iscuss the group questions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Oh yeah bab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at seems to be the underlying theory of language acquisition applied by this auntie?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uk.youtube.com/watch?v=37ssHa0Vqw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81840" y="7578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oddlers get  help with talk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Read the article from the BBC websi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are the reasons given in the article for children’s poor language developmen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help can be given to children who have poor communication skill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Does this report surprise you in any way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evelopmental sequen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orphe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g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Order of Acquisition (morphemes)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Put these into the order that children acquire them…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ossessive ‘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838080" y="27432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Auxiliary ‘be’ (he is coming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838080" y="312408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Present progressive (mummy coming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838080" y="3505320"/>
            <a:ext cx="4648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838080" y="35053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Copula (Jane is a nice girl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838080" y="3886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Third person singular (he run</a:t>
            </a:r>
            <a:r>
              <a:rPr b="1" i="1" lang="en-GB" sz="18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838080" y="42670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Plural s (two book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838080" y="46483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Regular past (she walk</a:t>
            </a:r>
            <a:r>
              <a:rPr b="0" i="1" lang="en-GB" sz="1800" spc="-1" strike="noStrike">
                <a:solidFill>
                  <a:srgbClr val="003366"/>
                </a:solidFill>
                <a:latin typeface="Arial"/>
              </a:rPr>
              <a:t>ed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838080" y="50292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Irregular past (she wen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914400" y="541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Articles ‘the’ and ‘a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ctual or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esent progress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lural 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rregular past for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ossessive ‘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opul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rtic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Regular pa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hird person singul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uxiliary ‘be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Neg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ive forms of negation in English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ot (‘n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gative words (nobod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o before nouns (no books are availabl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gative adverbs (nowhere/nev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gative prefixes (dis/non/u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tages of neg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Opposition to a proposition (10 -14 months shaking hea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o (first fifty word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egative + X (no go, no book, no ketchup/not go, not book, not ketchup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ubject + no + X (Mummy no/not go park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More complex sentences/other negations (I don’t like it).  NB. Early on, ‘no’ and ‘not’ interchangeable with ‘don’t’ and ‘can’t’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egatives of more auxiliary verbs (aren’t/doesn’t/isn’t) and past tense for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ising intonation (Rosie button?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at? (Whatsit?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ere? Who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?  Whe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ot dogs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Tas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Note down as much as you can of what the little girl say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ook back at your notes on child language learning: what can this child do/not do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at do you expect her to learn next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youtube.com/watch?v=_sdXQKc31A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Rectangle 4">
            <a:hlinkClick r:id="rId2"/>
          </p:cNvPr>
          <p:cNvSpPr/>
          <p:nvPr/>
        </p:nvSpPr>
        <p:spPr>
          <a:xfrm>
            <a:off x="990720" y="5638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How do people learn their first language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ree influential theories are: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ehaviour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ativism (Innatis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ociolinguistic (Interactionis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ys1</cp:lastModifiedBy>
  <dcterms:modified xsi:type="dcterms:W3CDTF">2009-12-14T19:07:3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