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025F-CD48-4B39-A88D-F6E2E49D3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CB04-E52E-40E7-BB0A-F3655D313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1BB3-74E4-4B81-8284-29D4C294B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1D07-7168-4BEF-A8A1-DBAD620CC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6FDF4-4E83-44B8-9847-715277F8C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6B419-7A0E-4312-B538-0556D91DA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F2ACC-BA1E-4350-B466-68C778592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E3C4D-4A17-4A85-8973-691F0A5E1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89F8B-7BD8-4E62-8B9C-ED791094A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8A384-488F-4806-B961-F6F91745E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18368-36C0-49AD-9F26-26CC5F6C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F60E-633D-4200-87A9-761E5EE0C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01F8D-0C1F-4885-991B-A66D1D27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6142D-9368-4D64-AD6D-F1C21005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6B6EC-4CB0-4F8F-A76F-40900116C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7845B-D042-4D5E-BEEE-5E4A30F4F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3CA4C-911F-488C-A3BF-321ABA56C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732F-5DE0-4045-80A1-68947C789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2EF6-85E0-4F6F-B52A-B0AEE9020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6652-F94C-4511-9C48-22E5AB4D1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D9CD-1208-4327-943F-3D65DE696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C2F1-146B-4EA0-B568-447C9796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4E9E-6200-4A81-829B-D3A73A5F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67F1-D13F-4AEB-B9F5-2ADA93E1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4C071-7302-4893-96B2-52BD752100C2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F6879-F740-4C0F-BCC3-4D0F62C7CD62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Learning English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ommunicative Language Teaching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Showcard Gothic"/>
              </a:rPr>
              <a:t>Okanj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                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ostuto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Y50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                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Kohii         Y40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---------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                                   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Y 900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187280" y="2492280"/>
            <a:ext cx="5816880" cy="25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umimasen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enets of CL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cus on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using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language rather than on knowing about langu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anguage is presented in a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con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put is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modifi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cus on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meaning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f language rather than on for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stakes are welcomed and not always correct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Authentic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terials are introduc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Interactiv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ir and group wor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ur skills and four system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 brief history of ELT pedagog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Grammar translation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method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cus on grammar and vocabul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cus on written texts chosen because they present particular grammatical patter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cus on accuracy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eachers use learners’ L1 to deliver the less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earners do exercises rather than tasks and activiti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earners will often be preparing for a test rather than to use the language to communicat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66"/>
                </a:solidFill>
                <a:latin typeface="Arial"/>
              </a:rPr>
              <a:t>(Still prevalent in many classrooms throughout the world.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udio-lingual metho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rived from Skinner’s theories of language lear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haviouri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veloped by US army (Korean war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struction in L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rilling, accuracy, correct pronunciation, question/response, oral before written, ‘over-learning’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ent-based teach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ubjects are taught through the target language (e.g. history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cus on meaning and communication rather than on accurac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ny hours of exposu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tent provides meaningful and comprehensible inpu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66"/>
                </a:solidFill>
                <a:latin typeface="Arial"/>
              </a:rPr>
              <a:t>(Much ‘bilingual’ teaching follows this approach.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‘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ringe methods’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 Silent Way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uggestopedia </a:t>
            </a:r>
            <a:r>
              <a:rPr b="0" i="1" lang="en-GB" sz="2800" spc="-1" strike="noStrike">
                <a:solidFill>
                  <a:srgbClr val="006666"/>
                </a:solidFill>
                <a:latin typeface="Arial"/>
              </a:rPr>
              <a:t>(Small class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ommunity Language Learning </a:t>
            </a:r>
            <a:r>
              <a:rPr b="0" i="1" lang="en-GB" sz="2800" spc="-1" strike="noStrike">
                <a:solidFill>
                  <a:srgbClr val="006666"/>
                </a:solidFill>
                <a:latin typeface="Arial"/>
              </a:rPr>
              <a:t>(Must know L1 and L2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otal Physical Response </a:t>
            </a:r>
            <a:r>
              <a:rPr b="0" i="1" lang="en-GB" sz="2800" spc="-1" strike="noStrike">
                <a:solidFill>
                  <a:srgbClr val="006666"/>
                </a:solidFill>
                <a:latin typeface="Arial"/>
              </a:rPr>
              <a:t>(Young Learner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urrent pedagog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ask-based lear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xical approa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AP/ES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mer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‘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st Method’ e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does this mean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does it imply in terms of choosing teaching approach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does Brown suggest is more useful than ‘methods’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ct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-1239840"/>
            <a:ext cx="9144000" cy="809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16040" y="1206360"/>
            <a:ext cx="6216840" cy="44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7488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979640" y="1662120"/>
            <a:ext cx="496872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462040" y="2362320"/>
            <a:ext cx="444528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976400" y="2760840"/>
          <a:ext cx="5416560" cy="30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6400" y="2760840"/>
                    <a:ext cx="5416560" cy="30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700360" y="1844640"/>
            <a:ext cx="316872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979640" y="2133720"/>
            <a:ext cx="56167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SA</cp:lastModifiedBy>
  <dcterms:modified xsi:type="dcterms:W3CDTF">2008-11-25T08:30:1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