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C107-66A8-44D1-8155-220CC3463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D949-0ACD-4976-827A-8B8D1DF6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1941-98F4-45E4-836B-BF1846A64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4F32-F59E-4AC9-80B0-10019711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F544-41FA-425F-8474-379A7B96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A288-D428-480D-A471-FC4FF919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9DA7-732F-4CBA-AAA3-15B26B1F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2B06-4A35-40A9-BC13-C55DCEB0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28D7-CD75-4CB8-B222-3D8F6717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C931-1E3A-4276-853E-84439E78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80EC-501E-442A-A54D-863EA015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FBEB-AA70-4CD4-94A6-70490DBC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31CE-38D7-4077-B888-E57AFE39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7ADE-4DE4-49D9-82CD-12B399CF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644C-B78F-49F7-807E-EC5CC02C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448E-7011-4B64-82C0-C3C1B455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C169-8242-4B94-98A5-E4E68233B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4323-D115-4D37-90C8-428AFA23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805F-2396-4E4F-BC23-9B96DE7A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4C03-B268-42F0-B353-BE4716DD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0AAE-942A-4DA7-9551-666CD737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52C5-17B7-4B1E-8076-024399FE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D0B1-7FF4-4ED8-9AF4-6395C1A6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B74E-947C-4D98-B593-E00EB3D6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EBB6-5957-4AE5-9082-FEE743494301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A296-7C52-49B5-B9C2-DF85E1AF8E9F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k.youtube.com/watch?v=37ssHa0Vqwg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_sdXQKc31AY" TargetMode="External"/><Relationship Id="rId2" Type="http://schemas.openxmlformats.org/officeDocument/2006/relationships/hyperlink" Target="file:///Learning%20L1.ppt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How people learn their first langua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Session 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ow we learn our first langua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as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ad through your text and answer the questions with other members of your group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each’ members of your new group what you have lear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iscuss the group questions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Oh yeah bab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at seems to be the underlying theory of language acquisition applied by this auntie?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uk.youtube.com/watch?v=37ssHa0Vqw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81840" y="7578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oddlers get  help with talk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Read the article from the BBC websi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are the reasons given in the article for children’s poor language developmen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help can be given to children who have poor communication skill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Does this report surprise you in any way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evelopmental sequen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orphe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g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Order of Acquisition (morphemes)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Put these into the order that children acquire them…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ossessive ‘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838080" y="27432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Auxiliary ‘be’ (he is coming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838080" y="312408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Present progressive (mummy coming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838080" y="3505320"/>
            <a:ext cx="4648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838080" y="35053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Copula (Jane is a nice girl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838080" y="3886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Third person singular (he run</a:t>
            </a:r>
            <a:r>
              <a:rPr b="1" i="1" lang="en-GB" sz="18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838080" y="42670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Plural s (two book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838080" y="46483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Regular past (she walk</a:t>
            </a:r>
            <a:r>
              <a:rPr b="0" i="1" lang="en-GB" sz="1800" spc="-1" strike="noStrike">
                <a:solidFill>
                  <a:srgbClr val="003366"/>
                </a:solidFill>
                <a:latin typeface="Arial"/>
              </a:rPr>
              <a:t>ed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838080" y="50292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Irregular past (she wen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914400" y="541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Articles ‘the’ and ‘a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ctual or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esent progress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lural 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rregular past for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ossessive ‘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opul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rtic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Regular pa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hird person singul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uxiliary ‘be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Neg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ive forms of negation in English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ot (‘n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gative words (nobod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o before nouns (no books are availabl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gative adverbs (nowhere/nev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gative prefixes (dis/non/u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tages of neg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Opposition to a proposition (10 -14 months shaking hea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o (first fifty word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egative + X (no go, no book, no ketchup/not go, not book, not ketchup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ubject + no + X (Mummy no/not go park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More complex sentences/other negations (I don’t like it).  NB. Early on, ‘no’ and ‘not’ interchangeable with ‘don’t’ and ‘can’t’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egatives of more auxiliary verbs (aren’t/doesn’t/isn’t) and past tense form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ising intonation (Rosie button?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at? (Whatsit?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ere? Who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?  Whe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ot dogs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Tas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Note down as much as you can of what the little girl say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ook back at your notes on child language learning: what can this child do/not do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at do you expect her to learn next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youtube.com/watch?v=_sdXQKc31A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Rectangle 4">
            <a:hlinkClick r:id="rId2"/>
          </p:cNvPr>
          <p:cNvSpPr/>
          <p:nvPr/>
        </p:nvSpPr>
        <p:spPr>
          <a:xfrm>
            <a:off x="990720" y="5638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How do people learn their first language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ree influential theories are: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ehaviour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ativism (Innatis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ociolinguistic (Interactionis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ys1</cp:lastModifiedBy>
  <dcterms:modified xsi:type="dcterms:W3CDTF">2009-12-14T19:07:3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