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07D-B1DE-4687-9A28-977546D2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2849-0813-4F3D-B5F8-A909BFFB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DAF-43F5-430E-93E7-F35084D9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8CD-63F1-4266-8709-322ED981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EBB3-80F4-42F3-80DB-0C986C04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223D-FDF6-4305-8ED2-9A2FD53F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4470-43EC-4586-99C2-269B9965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82C9-0FD9-4845-AE70-134A45D2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ADD4-0C64-451D-A089-A074C022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F962-D1A6-40CC-91F5-97DD21CA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90EA-87AE-4155-85D1-BDFF95A9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0C7-47AF-4CDE-8231-5B151FC8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9524-017E-4A65-A205-C49C9CDF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3529-119D-4C0A-9961-1C312656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3026-11F2-4FA1-BA4A-C299DF22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229E-E021-43AB-A1D1-82A523F7F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E3A6-1211-4BFD-8455-E9C6AB67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760-ED70-48D8-B9BC-01A309C5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831-BE0A-4E55-86CC-855490DA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0F6-BEF4-472B-9C35-A59798DD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B67-9AE8-4BCC-AD87-538EEE7F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2E0-601C-4AF6-83DC-C8D516AC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934-2448-416C-9383-FC8664DA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DA7-27EE-455D-B726-D8F86C3E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9E7F-F9BE-4F09-911C-8FE0A732B1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95DE-4EA7-4CFC-AFD4-507415BB7F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Learning Englis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lingualis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urrent debates/issues in bilingualism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dels’ are linked to ‘outcomes’, but whose interests do these outcomes se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 education systems cope with the increasing move towards globalisation and the changing ‘ethnoscapes’ (Appadural, 1990, cited in Martin-Jones,2007:176) of cities and countri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children best supported in schools and other educational institu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rom your reading and other sources, can you define these term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multaneous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quential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btractive b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nolingualis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y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Bilingualism – control over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imultaneous bilingualism – acquiring two languages at the same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equential bilingualism – learning one language after the first has been acquir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btractive bilingualism – when neither language is fully learnt (does this exist?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ultilingualism – control over more than two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Monolingualism – control over on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British socie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dvantages/disadvantages do bilinguals have in global ter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factors influence bilinguals’ choices of which language to us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people become bilingual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hoo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rther/higher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e to a different cou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ner speaks a different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requiremen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ringing up children bilingual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Read the following problems/scenarios and with your group decide on the best answer/respon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arning a new language in schoo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dels’ of bilingual educati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immersion (e.g. Canad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eparation (monolingual spac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urrent language (code switch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guage support in L1 clas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 bilingual education programme in Tex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fore you read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at percentage of people in Texas use Spanish as their first language, do you think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r child or sibling went to school in Texas, what language would you like him/her to be schooled i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you think it would be acceptable for children to receive their education only in Spanish in Texa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model of bilingual education has Texa traditionally used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the new model of bilingual educatio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criticisms of the traditional model, according to the article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are the advantages of the new model, according to the articl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at is your opinion on which model should be adopted?  Do you know which model is current in UK school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7T15:24:1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