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4CB-FDE4-4E9B-8B40-CAA35743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A91-BE1F-4A0C-BAF0-FB0E0EE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9C9-8A3B-4C0D-9B4B-6DC0ED2E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71B-C709-4F76-B823-7826B36D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F7FF-2783-4DE0-A651-9329B0A6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9EB8-118E-4D51-8CA4-F6FCE48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916E-0B16-42AA-8F97-7FD3255B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C110-8815-46C3-921D-5A8C6A40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DECA-DA51-4E30-B459-42A68B1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E6E8-7C31-4B48-932D-6DD51158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18C6-8DCE-40EB-A10A-E660B96B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FBAA-4220-4DFE-B9FC-E08ABDF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093F-7F16-46DF-8D68-C0C2A773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669-AA65-41C3-981C-D99B912F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7393-1579-4055-82F2-B5BC586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21BA-E139-4038-8473-D0B7DD6DF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3783-3F0E-40BB-8F5C-825163914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CEEF-982F-452E-8C40-48F661BD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810-140A-4BAD-B822-DB0FE09C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4BD-D250-4C50-A509-72F1D96A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E6F2-C021-4909-BFBA-33FB9282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EE0-348D-4787-B826-A9020DF8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AC3-895D-4A76-8056-1E41C3E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D74-98A8-466B-B617-E4B9AFF1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BBF2-601C-49D2-BBF6-7D2B41FC5F0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F6D-10F8-4739-9F59-F6D3A7920228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municative Language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Showcard Gothic"/>
              </a:rPr>
              <a:t>Okan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stut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5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ohii         Y4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-------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                     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Y 900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7280" y="2492280"/>
            <a:ext cx="5816880" cy="25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umima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nets of CL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language rather than on knowing about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is presented in 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put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language rather than on for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stakes are welcomed and not always correc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hentic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terials are introduc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terac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ir and group wor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 skills and four system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 brief history of EL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Grammar transl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metho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grammar an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written texts chosen because they present particular grammatical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cus on accuracy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achers use learners’ L1 to deliver the less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do exercises rather than tasks and activ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arners will often be preparing for a test rather than to use the language to communicat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(Still prevalent in many classrooms throughout the world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udio-lingual meth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rived from Skinner’s theories of languag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haviouri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ed by US army (Korean wa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truction in L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illing, accuracy, correct pronunciation, question/response, oral before written, ‘over-learning’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-based teach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are taught through the target language (e.g. histor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cus on meaning and communication rather than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y hours of expos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ent provides meaningful and comprehensible inpu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Arial"/>
              </a:rPr>
              <a:t>(Much ‘bilingual’ teaching follows this approach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ringe methods’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ilent Wa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ggestopedia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Small class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unity Language Learning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Must know L1 and L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tal Physical Response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(Young Lear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rrent pedagog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sk-based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AP/ES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mer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Method’ e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this mea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imply in terms of choosing teaching approach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Brown suggest is more useful than ‘methods’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c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1239840"/>
            <a:ext cx="9144000" cy="80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6040" y="1206360"/>
            <a:ext cx="621684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1662120"/>
            <a:ext cx="49687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462040" y="2362320"/>
            <a:ext cx="44452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6400" y="2760840"/>
          <a:ext cx="5416560" cy="30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6400" y="2760840"/>
                    <a:ext cx="541656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700360" y="1844640"/>
            <a:ext cx="3168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616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1-25T08:30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