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D0F5-6DC7-43EF-82CE-5C64724E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11D-DF0C-4B7A-AB3D-2F83C970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D30-48A2-4958-81B8-3083EB78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058-8467-4C2B-862A-145BD9D8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1EEB-0ED3-4A4C-95F2-47F38067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3555-1626-46B2-8E47-BCD4521A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087F-0598-4836-A121-DD9DBEED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66AA-6325-4D7F-B699-0B84F304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3F3D-C3CC-4072-B401-28C18CFF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207D-E9BC-46BB-B3E6-87105262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9C88-269C-421F-9D50-1AF51647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B84-0B24-43C7-97FA-B6A026A7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C0A-65DA-4BFB-82DC-65A89EF2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8B5B-76EF-4131-892B-1A9B3B17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3130-B4CF-4A00-B9B2-92E727D6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2831-35A8-4BFC-8D9B-4D7CFD92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3D42-C8B1-4EBF-82D3-3796CC23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7AD-3F45-4059-99EC-D8B1DF4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0FF-0A10-4B4E-960F-A5C27D46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6055-1C90-4EDB-B49C-C92BA18E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2E0-7F4E-4B22-B936-CAD12416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85E-0FED-43C5-86C1-C3A1239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08F-A6F9-4F48-96C7-813D4583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E153-769B-48F4-AD51-64B56015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5A0-2AAD-43F5-9577-C8F07F34B3A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F26-9FC3-4021-9414-01F215DBF2E2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37ssHa0Vqwg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_sdXQKc31AY" TargetMode="External"/><Relationship Id="rId2" Type="http://schemas.openxmlformats.org/officeDocument/2006/relationships/hyperlink" Target="file:///Learning%20L1.ppt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ow people learn thei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Session 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 learn our first langu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 through your text and answer the questions with other members of your group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’ members of your new group what you have lear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cuss the group questions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h yeah bab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seems to be the underlying theory of language acquisition applied by this auntie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uk.youtube.com/watch?v=37ssHa0Vqw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1840" y="7578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ddlers get  help with tal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 the article from the BBC websit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reasons given in the article for children’s poor language developm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help can be given to children who have poor communication skil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es this report surprise you in any wa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velopmental sequ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rphe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Order of Acquisition (morphemes)</a:t>
            </a:r>
            <a:br>
              <a:rPr sz="2800"/>
            </a:br>
            <a:r>
              <a:rPr b="1" lang="en-GB" sz="2800" spc="-1" strike="noStrike">
                <a:solidFill>
                  <a:srgbClr val="006666"/>
                </a:solidFill>
                <a:latin typeface="Arial"/>
              </a:rPr>
              <a:t>Put these into the order that children acquire them…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838080" y="27432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uxiliary ‘be’ (he is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838080" y="31240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t progressive (mummy coming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38080" y="3505320"/>
            <a:ext cx="4648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5053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pula (Jane is a nice gir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886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hird person singular (he run</a:t>
            </a:r>
            <a:r>
              <a:rPr b="1" i="1" lang="en-GB" sz="18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38080" y="4267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lural s (two book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838080" y="46483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Regular past (she walk</a:t>
            </a:r>
            <a:r>
              <a:rPr b="0" i="1" lang="en-GB" sz="1800" spc="-1" strike="noStrike">
                <a:solidFill>
                  <a:srgbClr val="003366"/>
                </a:solidFill>
                <a:latin typeface="Arial"/>
              </a:rPr>
              <a:t>e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38080" y="50292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rregular past (she wen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914400" y="541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rticles ‘the’ and ‘a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ctual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esent progress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lural 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regular past f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ossessive ‘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opu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rtic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gular p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d person singu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uxiliary ‘be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forms of negation in English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(‘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words (nobod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 before nouns (no books are availabl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adverbs (nowhere/nev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gative prefixes (dis/non/u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ges of neg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pposition to a proposition (10 -14 months shaking head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o (first fifty word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 + X (no go, no book, no ketchup/not go, not book, not ketchup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ject + no + X (Mummy no/not go park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re complex sentences/other negations (I don’t like it).  NB. Early on, ‘no’ and ‘not’ interchangeable with ‘don’t’ and ‘can’t’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egatives of more auxiliary verbs (aren’t/doesn’t/isn’t) and past tense for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ising intonation (Rosie button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? (Whatsit?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re? Wh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?  Whe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t dog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ote down as much as you can of what the little girl say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ook back at your notes on child language learning: what can this child do/not do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do you expect her to learn nex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youtube.com/watch?v=_sdXQKc31A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4">
            <a:hlinkClick r:id="rId2"/>
          </p:cNvPr>
          <p:cNvSpPr/>
          <p:nvPr/>
        </p:nvSpPr>
        <p:spPr>
          <a:xfrm>
            <a:off x="990720" y="56386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How do people learn their first languag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ree influential theories are: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ehaviour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tivism (Innatis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ciolinguistic (Interactionis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ys1</cp:lastModifiedBy>
  <dcterms:modified xsi:type="dcterms:W3CDTF">2009-12-14T19:07:3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