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283-F67D-4B30-95FB-CAFDC400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97E-D38C-4AA2-AA2F-24EBAA19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A27-8BC8-4CEB-BCA8-1C27958A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8B1-0781-4356-9302-C51D53EB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76A0-A541-4176-9DA0-FB28FDB9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9B1F-75C4-4DAC-B180-0DC74E9F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76D4-0493-4A88-A87B-54CC98C7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F435-EB7D-40EC-B75B-83720BCD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B326-4CB1-4FDB-8B3A-71B52026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41C5-4FF2-4739-B4B6-DB477C08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F820-B672-41DA-922F-A60AB3E1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9DD-5544-418E-9A0E-33FE5136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4D3C-8D6C-4BD8-89D3-8BE030C6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A44A-B435-4A4D-BD71-05D0858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11D9-C8E1-48F8-84EA-83629FD1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BF34-9E00-41AC-9AEC-4ACC6565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AD4C-51FB-45E1-BDB4-C6B76CC0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C94-B5DE-4B14-A7E7-CA72A845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7DB-8656-4D0A-B39B-3CCCBE6A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580-6C98-4AF8-BBCA-49A68290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45A-1F97-43C6-8841-2EDC34D3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935-C687-49F2-8E5B-9F63B34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B2B-5D9D-4786-B17A-BDB688F7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E03-AA0B-4CB4-9B6F-25662834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2FF1-3199-4D51-AABA-8A894CC6653A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25CC-E78A-4700-8E75-480B8829EBE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sdXQKc31AY" TargetMode="External"/><Relationship Id="rId2" Type="http://schemas.openxmlformats.org/officeDocument/2006/relationships/hyperlink" Target="file:///Learning%20L1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ow people learn thei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ession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 learn ou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 through your text and answer the questions with other members of your gro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’ members of your new group what you have lear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cuss the group questions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1840" y="7578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ddlers get  help with tal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 the article from the BBC web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reasons given in the article for children’s poor language develop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help can be given to children who have poor communication skil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es this report surprise you in any wa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al sequ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phe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Order of Acquisition (morphemes)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Put these into the order that children acquire them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743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uxiliary ‘be’ (he is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38080" y="3124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t progressive (mummy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3505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5053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pula (Jane is a nice gir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886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ird person singular (he run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38080" y="4267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lural s (two book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8080" y="4648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gular past (she walk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e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38080" y="5029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rregular past (she w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14400" y="541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rticles ‘the’ and ‘a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ctual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ural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regular past 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pu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gular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d person singu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uxiliary ‘b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forms of negation in Englis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(‘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words (nobod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 before nouns (no books are availa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adverbs (nowhere/nev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prefixes (dis/non/u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ges of 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pposition to a proposition (10 -14 months shaking he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 (first fifty wo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 + X (no go, no book, no ketchup/not go, not book, not ketchup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ject + no + X (Mummy no/not go pa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sentences/other negations (I don’t like it).  NB. Early on, ‘no’ and ‘not’ interchangeable with ‘don’t’ and ‘can’t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s of more auxiliary verbs (aren’t/doesn’t/isn’t) and past tense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ising intonation (Rosie button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? (Whatsi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re? Wh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?  W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t do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te down as much as you can of what the little girl s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ook back at your notes on child language learning: what can this child do/not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do you expect her to learn nex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_sdXQKc31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2"/>
          </p:cNvPr>
          <p:cNvSpPr/>
          <p:nvPr/>
        </p:nvSpPr>
        <p:spPr>
          <a:xfrm>
            <a:off x="99072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ow do people learn their first languag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ree influential theories are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tivism (Innatis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ciolinguistic (Interaction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ys1</cp:lastModifiedBy>
  <dcterms:modified xsi:type="dcterms:W3CDTF">2009-12-14T19:0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