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DFED-C07B-4378-86CE-5453B171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20C-FCD5-4A7D-BC71-F5A0CDDB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A80C-BF5E-4FCF-A982-CA66DDC4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B70-E5C8-4FDF-8A2F-B50FF1A9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9290-79F7-4389-9ACC-0853D262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903D-FCC4-4BFD-A992-1563AA86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36C2-B064-4CB6-8AEB-270DBA07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E098-C8FB-45AD-983E-D248B287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FA63-BD19-48FE-ADB1-D45D4622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676A-16E7-4B43-BB74-F5A211DA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E700-A49A-4830-AF55-315CFA7D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6A51-194F-409A-8E07-64BD0FBB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40B7-DFD9-431A-92B7-CDA068A2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DB2E-254F-4DB9-9104-FD40972A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AFF9-9CFC-4613-A57D-0AFF4FA8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28B5-F535-44A5-8CAB-F353D8E3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0171-67CE-414E-906E-10D04539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BF3F-AB12-4E74-B75A-A4BEBBEF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CF7-AC16-4367-8CA8-A060FFF6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4A3-4B16-4F80-9A62-59CEFC23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C271-A635-4235-818C-7986F5BF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9F8E-6BB5-458D-9E18-EDBAF6B2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173-6F3A-4CDE-B592-17C1D353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196A-9B87-4945-8D93-F5F46585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5A45-1E63-4F9A-9D18-9984B2A8049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C440-A8E5-4D94-9785-9C154CAD08A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fferentiation: a workshop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ona Coplan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f.m.copland@aston.ac.uk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iation and learning pre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lack of variety doesn’t help.  I find that quite a barrier.  The fact that the class always starts in the same way means I switch off mentally – oh no, not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tha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again! Generally I am someone who needs a lot of variety.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lara, student at Brasshou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248520" y="4648320"/>
            <a:ext cx="1288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 kinds of learning preference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ual, aural, kinaesthe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lytical/holis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ole class/group/pair/individ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insically motivated/extrinsically motiva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Your pract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o you use differentiated questioning in your practice? Please explain your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o you use other kinds of differentia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Outcom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icipants will develop knowledge and understanding of the concept of different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rticipants will apply this knowledge and understanding to developing resour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rticipants will share their differentiation practi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tion: a defin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fferentiation is adopting different strategies that ensure success in learning for all, by accommodating individual differences of any kind.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tty G. (2004)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eaching Toda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Cheltenham/Nelson Thor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hen can we differentiate according to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utside interests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Show and tel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rgeted language for particular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one student a week?)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ct wo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can we differentiate according to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ducational backgroun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hare educational experien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 What students like/don’t like about lear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  Cater for students who have formal    understanding of language/don’t have formal understanding of langua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tion according to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lev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udents will watch the talk and complete the worksheet by adding verbs in the imperat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udents will write in the words from c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udents will fill in the words independent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iating according to level – key facto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extension tasks for those students who finish quick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sure that the first questions/activities are easily completed by all stud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use of questioning.  Are your questions meant to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halleng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to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stil confiden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ich is the most difficult question to answer?  Put in order, simplest first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you make sc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124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like sc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39625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difference between a scone and a bisc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029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ngredients do you need to make sc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iation and learning pre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teacher would do most of the talking and when we needed to practise something, she would go round the whole group one person at a time.  If there was a dialogue, she would take the other part….The whole thing would take about twenty minutes and you only got your 3 minutes of glory.  I found that quite boring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hoebe, student at Brasshou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553080" y="5105520"/>
            <a:ext cx="183060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7-11-23T10:55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-5262230</vt:r8>
  </property>
  <property fmtid="{D5CDD505-2E9C-101B-9397-08002B2CF9AE}" pid="4" name="_AuthorEmail">
    <vt:lpwstr>f.m.copland@aston.ac.uk</vt:lpwstr>
  </property>
  <property fmtid="{D5CDD505-2E9C-101B-9397-08002B2CF9AE}" pid="5" name="_AuthorEmailDisplayName">
    <vt:lpwstr>Copland, Fiona</vt:lpwstr>
  </property>
  <property fmtid="{D5CDD505-2E9C-101B-9397-08002B2CF9AE}" pid="6" name="_EmailSubject">
    <vt:lpwstr>Two more?</vt:lpwstr>
  </property>
  <property fmtid="{D5CDD505-2E9C-101B-9397-08002B2CF9AE}" pid="7" name="_NewReviewCycle">
    <vt:lpwstr/>
  </property>
</Properties>
</file>