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0AEA-FF59-407E-92E2-1C30BEBCDC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171FE-CE3E-4D2F-AFCA-DCA99A6D1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9E112-C672-4385-B6DD-7F069616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C337A-F8A1-4A82-8A60-EF1D04760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A02F0-3319-4E42-B60D-8EA22E0DC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1A43B-FADF-4EAA-B08D-9FE704AE0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71922-EEF1-409D-BB77-45BC8131D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B8B18-D774-4DE5-B1C8-8F1DDB19F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25364-D175-4ED3-BBB2-783348810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F7CCD-C2C0-4706-9B14-EF1D83A8D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1516F-447B-49DC-9C5E-D8C454CF5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40315-23FA-4D94-B74F-E10AB1ECF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B09CD-8EE5-4CB5-89BF-B7AE625A1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7B2FA-18C4-4FC8-B24C-C64698D81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33E91-ABC7-4ACF-B804-FB603F378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9BCEF-F893-4152-94C4-F990DEDF4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7F73F-C13A-4705-B4E8-8E1AAAF6C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6204A-6258-45C2-8BA2-49FEF4F7A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D2916-1771-4CD9-9894-93A9E4D22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65D62-8AC7-44DC-B126-E82B9BCC9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902D5-060C-40C9-9EE5-702436CB3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7D36D-B0D5-46EE-997D-57F95DD38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1FD1-B759-4C54-9CF9-98B24A07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10946-36F5-40C9-98B8-C8DA1299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8F6D-749E-4DE8-AF53-44061C33C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7590-B493-4895-8FB2-C4C07CBE864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8C8F-105F-48DC-AA5E-0E963A92B04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edback in pre-service English language teacher training: discourses of process and power</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dings (funny word for this kind of work, I think)</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609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 at this institution constitutes a ‘genre’ wit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
          <p:cNvSpPr/>
          <p:nvPr/>
        </p:nvSpPr>
        <p:spPr>
          <a:xfrm>
            <a:off x="2438280" y="5942880"/>
            <a:ext cx="1496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23" name=""/>
          <p:cNvSpPr/>
          <p:nvPr/>
        </p:nvSpPr>
        <p:spPr>
          <a:xfrm>
            <a:off x="1066680" y="3962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990720" y="41911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838080" y="2819520"/>
            <a:ext cx="16948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t>
            </a:r>
            <a:r>
              <a:rPr b="0" lang="en-GB" sz="1800" spc="-1" strike="noStrike">
                <a:solidFill>
                  <a:srgbClr val="666699"/>
                </a:solidFill>
                <a:latin typeface="Arial"/>
              </a:rPr>
              <a:t>conventionalised expectations that members of a social group or network use t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shape and construe the communicative activity that they are engaged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These expectations include a sense of the likely tasks on hand, the ro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relationships typically involved, the ways the activity can be organised,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the kinds of resources suited to carrying it out’ (Rampton, 2006:30).</a:t>
            </a:r>
            <a:endParaRPr b="0" lang="en-US" sz="1800" spc="-1" strike="noStrike">
              <a:solidFill>
                <a:srgbClr val="003366"/>
              </a:solidFill>
              <a:latin typeface="Arial"/>
            </a:endParaRPr>
          </a:p>
        </p:txBody>
      </p:sp>
      <p:sp>
        <p:nvSpPr>
          <p:cNvPr id="126" name=""/>
          <p:cNvSpPr/>
          <p:nvPr/>
        </p:nvSpPr>
        <p:spPr>
          <a:xfrm>
            <a:off x="1066680" y="4419720"/>
            <a:ext cx="7696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eatures of the genre include:  a set of phases, the order of which is affected by the feedback framework introduced; different role sets for trainers and trainees; focus on pedagogy in as a topic for discussion; sets of linguistic resources for enacting face threatening acts such as criticis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tekeeping</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take on a gatekeeping role with regard to the TEFL profession (Roberts and Sarangi, 1999).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this in three way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6666"/>
                </a:solidFill>
                <a:latin typeface="Arial"/>
              </a:rPr>
              <a:t>assessing according to the criteri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their own ‘hidden’ agendas (Bernstein,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how trainees seem to ‘be like us’ (performing the genre, accepting criticism, accepting truth claims made be trainers and so 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sseminate information about ‘best practi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linguistic devices such as hedging and performing certain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trol who speaks (‘probing’ questions)and about wh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use to take par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allenge trainers’ epistemological discour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ay the ga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aredness for feedback?</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 feedback is complex and polygeneri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rs learn through ‘apprenticeship’ model (Community of Practice).  Becomes an automatic and hegemonic practice.  Unaware (I believe) of the impact of their pract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es get very little training in ‘conventionalised expectations’ of feedback.  Must sink or sw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generic features of feedback in this contex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hegemonic positions are enacted and reproduced by these trainer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rategies do these trainers and trainees use to introduce, maintain and negotiate power in their feedback sess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these trainers and trainees adequately prepared to take part in the feedback genr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y (LE) is a growing body of research which combines linguistics and ethnography to produce detailed and nuanced studies of talk in particular contexts in order to ‘understand the social processes we are involved in’ (Rampton, 2007:12).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ers believe in a set of ontological precepts, such as rejecting ‘the objectivism found in e.g. structuralist linguistics’ (UK LEF, 2004:5; Rampton, 2007), and ‘the overriding importance of reflexivity’ about their own intellectual assumptions (UK LEF, 2004: 5).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pistemologically, they believe th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this mean in practic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ing together </a:t>
            </a:r>
            <a:r>
              <a:rPr b="0" i="1" lang="en-US" sz="2800" spc="-1" strike="noStrike">
                <a:solidFill>
                  <a:srgbClr val="003366"/>
                </a:solidFill>
                <a:latin typeface="Arial"/>
              </a:rPr>
              <a:t>and integrating</a:t>
            </a:r>
            <a:r>
              <a:rPr b="0" lang="en-US" sz="2800" spc="-1" strike="noStrike">
                <a:solidFill>
                  <a:srgbClr val="003366"/>
                </a:solidFill>
                <a:latin typeface="Arial"/>
              </a:rPr>
              <a:t> ethnographic and linguistic approaches to data collection and analys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id I do?</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ata Coll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d feedback on an intensive and semi-intensive CELTA programme (four trainers; nine trainees).  Took fieldnotes – later ‘written up’.</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all feedback on digital recorder.</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some feedback on video.</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rs before and after their cours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es after their course, in a grou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si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owards the later stages in particular, the stages were simultaneous rather than consecutive.  I constantly revisited earlier stages as I worked on later stages and consulted all data sets throughout the process’ (Me – my the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my analysi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itial confusion – what to do with all this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ing the first step – was I doing it ‘righ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priori vs (and?) emerging catego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ct categoris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mount of ti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 drawing the ‘right’ conclusions? Had I missed something?  Was my knowledge of CA, for example, strong enoug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t obviou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stake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ribing all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ing all the da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04-25T10:40:0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