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97D6-52A3-48EA-A0F7-749C5AA4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0D7-763B-408D-8247-550C2635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77BB-5294-4947-B228-1CC115CF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8CC-830A-49C1-9AA3-34576DE4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122F-B70A-4080-AAC8-EDD17336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E20B-F0E9-45BC-920A-B33D6B6A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A0DE-7C89-4DE2-861A-DAB91FAC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4264-EB92-4AA3-9074-1A6AAFD5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3085-98F7-480A-960B-A7DECDC3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FBD7-C0BA-4C29-BA38-F1F9A967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D8DB-C781-4DC2-9633-39EF8CE8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E130-3919-4D0F-A2EE-74A07FE0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5534-5A21-4E73-A9A9-C9C25CCD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33BE-DA8A-4CBE-BFBB-AA86CE84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6CC4-E674-4B0E-96ED-1FA6E5FF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0D9A-3905-468F-8B68-E1C8ECDA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E39F-540D-405E-A942-9832099E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596-B9CE-47D1-989F-93F9A90B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22CE-C961-4436-8B43-74F909D6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F0E-2715-42FF-8646-DCC36E85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55B-EFFB-442A-9729-DE32D70D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0FF-7B01-4304-A8DC-005C9E30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2AB-D0F3-4F77-9F9A-CE1F573C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5AB-BE68-4D97-A1C8-08A346B8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A805-0BE9-4020-A0D3-6B4053427CC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4887-E9AD-413D-AB7E-EA3AF3B179C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and Teaching Languages 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ona Coplan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id you learn English (another language)?  Which was dominant for you: exposure, use, motivation or instruc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agree that these are the conditions for language learning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what extent do you think instruction is essentia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tivate learners from the start (praise, make activities achievable, warm up class, create good atmosphere, respond to learners as peopl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courage learners to have a strong self-image of themselves as successful language learners with goals and strateg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rehensible Inp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ources of input for learne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ursebo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rn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wspap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ublicity materi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pes/CDs/DV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OU!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25780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1584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1625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teacher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ort stories with visual aids, repetition, eye contact, stress and inton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edi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 prepa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involved in the stor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acher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d to grade language effective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can talk too mu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get boring if done repeated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d to find ways to make listening interesting (funny story, puzzle, personal interes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e/CD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- stage approac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-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le-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-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e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has been d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eats exactly what has been sa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tivities avail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ropriat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s learners opportunity to hear other voices/acc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e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context – teacher has to provi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mbodied’: no ‘human’ interaction between tape and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icult to stop and repe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does not respond to learners’ immediate difficult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rehensible Outp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ca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ak to each other (this is valuable!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ak to the teac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Outcom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the end of the session, participants will hav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ed knowledge and understanding of how people learn langu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ied these principles to classroom learning and teac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ed their own practice in light of these princip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bout mistak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stakes are natural and are evidence of learning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Rule of thumb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rrect mistakes in controlled prac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correct in free prac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a note of mistakes and correct these as a class (e.g. ‘I heard someone say…….Is this correct?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y own practic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do you do most of in your clas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tiva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comprehensible inpu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opportunities for outpu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cus on for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ditions for Language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2667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SSENTIAL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posu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28954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72000" y="251496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438280"/>
            <a:ext cx="30481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DESIRABL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5257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rom Willis J. (1996)  A Framework for Task-based Learning.  London: Longm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mus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ant to lear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motivation). S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work with learners’ natural motivation to lear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give learners the opportunities to see themselves as successfu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find out what learners wa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personalise lear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rasshouse students speak up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my class there was too much emphasis on writing and not enough on listening and speaking, especially speaking!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lack of variety doesn’t help.  I find that quite a barrier, the fact that the class always starts in the same way means that I switch off mentally – oh no, no that again.  Generally I am someone who needs variety.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I can remember is how to order one cup of coffee with sugar in it, and I don’t even take sugar!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posure to ‘comprehensible input’ (after Krashen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earners must be able to make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some kind of sense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of what they are reading/hear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f the listening text/reading text is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too difficul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, learners will not be able to make sen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f the listening text/reading text is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too easy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, learners will not learn anything n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portunities for ‘language use’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need to us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nguage to d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ings, for example, chat, negotiate, discuss, exchange inform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should be given opportunities fo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trolled practi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grammar, vocabulary, phonology, discourse) an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ree pract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rasshouse students speak out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teacher would do most of the talking and when we needed to practise something she would go round the whole group one person at a time.  If there was a dialogue, she would take one part and the students would take another part…the whole thing would take about twenty minutes and you would only get your three minutes of glory.  I found that quite boring.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ceive instru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the form, meaning and use of language, throug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actis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ing and analy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rime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ing ques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04-18T10:07:4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1502425686</vt:r8>
  </property>
  <property fmtid="{D5CDD505-2E9C-101B-9397-08002B2CF9AE}" pid="4" name="_AuthorEmail">
    <vt:lpwstr>f.m.copland@aston.ac.uk</vt:lpwstr>
  </property>
  <property fmtid="{D5CDD505-2E9C-101B-9397-08002B2CF9AE}" pid="5" name="_AuthorEmailDisplayName">
    <vt:lpwstr>Copland, Fiona</vt:lpwstr>
  </property>
  <property fmtid="{D5CDD505-2E9C-101B-9397-08002B2CF9AE}" pid="6" name="_EmailSubject">
    <vt:lpwstr>Two more?</vt:lpwstr>
  </property>
  <property fmtid="{D5CDD505-2E9C-101B-9397-08002B2CF9AE}" pid="7" name="_NewReviewCycle">
    <vt:lpwstr/>
  </property>
</Properties>
</file>