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913-E3AC-4E7C-A2DB-42466472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B7B-99EF-44C2-AA24-AC41908C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FE6-6A2A-46A5-B0D5-973DA1C6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13E-16FB-4B5F-805E-13207CD6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83D7-9BF3-4F0C-B752-904EA0AC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8436-55D9-47E1-B63A-5407242F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C69A-F908-453B-A104-577A9E58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4321-C7A7-4A7A-B3FD-A4B4C234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E4DD-381A-4CAF-819F-4F4D3340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C17D-770D-495C-A343-A36AACD3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84CF-C28E-40C0-801E-8F0A5B3B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4AD-7EA9-475A-B204-AE952D64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EE50-43C7-4B0F-94B9-2E518265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A7F8-8E13-4FBF-ADCB-DB5D2F4F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5169-CA59-4EC1-8AC3-979AF6D4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218A-B886-45F0-8C02-C5899D45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D8AC-0D6F-47E6-AC94-5B6761B8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613-6B57-49EF-A304-3FA140FD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C3C-3853-4E5E-98D8-15233614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631-DD4D-4B8C-ACF8-1E754DDB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746-E886-4609-AC3C-CB2AAB4C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18A-0805-47D2-ACBB-05D52FED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9AB-5196-4AE3-82B6-9C491B6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5D7-3F3A-4D60-B0C6-E8AE1EFA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237A-41CE-42D0-B87B-71DF419298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7F91-482C-45A9-B8D7-592A3410DE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fferentiation: a workshop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.m.copland@aston.ac.uk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.  The fact that the class always starts in the same way means I switch off mentally – oh no, not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th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gain! Generally I am someone who needs a lot of variety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lara, student at Brassho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 kinds of learning preference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, aural, kinaesthe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tical/holi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le class/group/pair/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insically motivated/extrinsically motiv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prac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differentiated questioning in your practice? Please explain your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other kinds of differenti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nts will develop knowledge and understanding of the concept of different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apply this knowledge and understanding to developing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share their differentiation pract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: a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fferentiation is adopting different strategies that ensure success in learning for all, by accommodating individual differences of any kind.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tty G. (2004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eaching Toda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Cheltenham/Nelson Thor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n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tside interest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how and t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language for particula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one student a week?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backgroun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are educational experi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What students like/don’t like about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 Cater for students who have formal    understanding of language/don’t have formal understanding of langu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 according to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atch the talk and complete the worksheet by adding verbs in the imper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rite in the words from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fill in the words independent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ng according to level – key fact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extension tasks for those students who finish quick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sure that the first questions/activities are easily completed by all stu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use of questioning.  Are your questions meant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lleng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stil confid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ich is the most difficult question to answer?  Put in order, simplest firs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124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962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a scone and a bisc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029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ngredients do you need to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, she would go round the whole group one person at a time.  If there was a dialogue, she would take the other part….The whole thing would take about twenty minutes and you only got your 3 minutes of glory.  I found that quite bor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hoebe, student at Brassho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18306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7-11-23T10:55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5262230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