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E6FC-50FA-472C-9A66-53FE63473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67D3-031B-40A4-8A19-14C8F060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B145-FF01-44CD-BF06-3791EFA5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1BF3-E88B-426F-A7A6-1245421C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729B-42F8-4BB4-8CB4-833FB29A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0EAE-190E-41BD-BEED-83B55888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5D5D-276A-4912-B1CD-F283607D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35AB-3AF2-455F-A828-8121D68A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ED7D-FA47-485D-A842-A5D648D4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7F41-A74C-42A7-9B73-40C20339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FBA7-2E71-464C-847B-26FFBE51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DEEC-B7D9-4A17-ABBE-B6146DBE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BB3F-7D5F-46BF-894C-05D964AA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2766-3076-4F20-8783-B38C8CDF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85F2-F919-458A-8F3F-DA366D98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444E-3F68-43AC-A566-30B2DC1CE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FAFD-305A-4E4C-A909-2C6456E1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A98B-F14B-4249-8843-F7B95755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ECF9-10B2-48CF-B7CF-A9C7A903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0F8C-3BEB-40A1-8381-12F418D5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B2BD-52CB-4833-B715-2AB78BB9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29B1-0E1A-4ADE-86C3-8E58F581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69D5-9C71-43D2-996E-1508B388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5909-BD58-4EE6-8E02-A727B39A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B4F3-D6A7-40FF-BA4A-2A81C7E8C36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EF3A-D989-43A2-B7F9-FEECD575253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eaching Practice 2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ask-based learning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ditions for Language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438280"/>
            <a:ext cx="26672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SSENTIAL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xpos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289548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572000" y="251496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2438280"/>
            <a:ext cx="304812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SIRAB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str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52578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From Willis J.  1997. A Framework for TBL. Longma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id you learn English?  Which was dominant for you: exposure, use, motivation or instruc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you agree that these are the conditions for language learning?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what extent do you think instruction is essentia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lems with TB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icip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we learn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iring and group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pa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ther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urrent thinking on tas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rd and soft ver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ing prefere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t-modern pedagog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staff</cp:lastModifiedBy>
  <dcterms:modified xsi:type="dcterms:W3CDTF">2009-12-08T15:34:0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