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CF8-1DE8-4927-BE63-978B39D5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D826-C0F1-483A-822B-C2BD46DB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F620-FA8C-40BF-A5CC-D4680EAB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EB8-718E-4FF8-B30F-165EE0DE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1B0C-41E4-4A9A-9901-0152E739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188A-1B14-4E84-8B5C-EB37838E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1592-BE05-49D4-9870-E6010905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24F5-8109-48D6-ADD9-79E8CBED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FDEE-452A-40B6-9455-3CF165DC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B941-986F-40AE-8B20-FD5DE519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EDB6-6954-4051-898D-C82ECEB3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A1C-AAA3-4CE8-980F-4A02FA3C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3F19-C69D-4F29-88CF-7FB5D0B1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63E1-CBA2-44DC-95A1-E61EF6C2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8665-EE88-4817-A944-8CC90F8B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8A1D-CC5F-4A57-8019-800D72C3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CA17-6D8B-403F-BC59-B9FF1ADB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2D3-63F8-4982-BFB6-E947D330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4C1-B199-4CBF-B44D-C2F9BB2B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E5F-C64C-41A2-9579-9FDD3160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5FA9-84CD-46A8-8F7B-523C34AC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4387-AEDD-4AB6-B01C-BDE726D2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88A-32EF-43FD-96FF-DAEF9B34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4C7-867E-4BCC-A850-95EE8A53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D272-6CC7-4309-A37C-8B1F990DD2D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2D0B-7DAA-435D-A221-7CC33FA34C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fferentiation: a workshop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ona Coplan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f.m.copland@aston.ac.uk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on and learning pre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lack of variety doesn’t help.  I find that quite a barrier.  The fact that the class always starts in the same way means I switch off mentally – oh no, not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tha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again! Generally I am someone who needs a lot of variety.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lara, student at Brassho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48520" y="4648320"/>
            <a:ext cx="1288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 kinds of learning preference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ual, aural, kinaesthe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ytical/holis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ole class/group/pair/individ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insically motivated/extrinsically motiva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Your pract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o you use differentiated questioning in your practice? Please explain your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o you use other kinds of differentia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Outco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icipants will develop knowledge and understanding of the concept of different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rticipants will apply this knowledge and understanding to developing resour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rticipants will share their differentiation practi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tion: a defin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fferentiation is adopting different strategies that ensure success in learning for all, by accommodating individual differences of any kind.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tty G. (2004)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eaching Toda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Cheltenham/Nelson Thor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hen can we differentiate according to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utside interests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Show and te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rgeted language for particular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one student a week?)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 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can we differentiate according to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ducational backgroun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hare educational experien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 What students like/don’t like about lear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  Cater for students who have formal    understanding of language/don’t have formal understanding of langua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tion according to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lev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watch the talk and complete the worksheet by adding verbs in the impera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write in the words from c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fill in the words independent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ng according to level – key facto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extension tasks for those students who finish quick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sure that the first questions/activities are easily completed by all stud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use of questioning.  Are your questions meant to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halleng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to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stil confide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ich is the most difficult question to answer?  Put in order, simplest first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you ma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124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39625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difference between a scone and a bisc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029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ngredients do you need to ma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on and learning pre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teacher would do most of the talking and when we needed to practise something, she would go round the whole group one person at a time.  If there was a dialogue, she would take the other part….The whole thing would take about twenty minutes and you only got your 3 minutes of glory.  I found that quite boring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hoebe, student at Brassho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553080" y="5105520"/>
            <a:ext cx="183060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7-11-23T10:55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-5262230</vt:r8>
  </property>
  <property fmtid="{D5CDD505-2E9C-101B-9397-08002B2CF9AE}" pid="4" name="_AuthorEmail">
    <vt:lpwstr>f.m.copland@aston.ac.uk</vt:lpwstr>
  </property>
  <property fmtid="{D5CDD505-2E9C-101B-9397-08002B2CF9AE}" pid="5" name="_AuthorEmailDisplayName">
    <vt:lpwstr>Copland, Fiona</vt:lpwstr>
  </property>
  <property fmtid="{D5CDD505-2E9C-101B-9397-08002B2CF9AE}" pid="6" name="_EmailSubject">
    <vt:lpwstr>Two more?</vt:lpwstr>
  </property>
  <property fmtid="{D5CDD505-2E9C-101B-9397-08002B2CF9AE}" pid="7" name="_NewReviewCycle">
    <vt:lpwstr/>
  </property>
</Properties>
</file>