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A93-0354-4CE5-BC3C-440A6421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F7A-592E-4B8A-9377-151EDF7C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97A-52E7-4DF5-8621-ABE4FFFD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6FC-6718-4AFB-BD83-4F9F012B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08AF-F456-4745-8FF7-5C399BCD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474A-8ADF-47C3-B0D0-FEBFDDA8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E90D-EB60-4B99-A386-5CB3A748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EBB1-A8E8-4884-BA07-311D639C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B87D-6340-4B6C-833E-03504240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E6CC-B6BD-468D-89AF-4073306F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2B55-0F35-4A86-BC19-4B74A883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4F1-5EF7-4483-A302-DC6EE5D4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C73A-9077-4A02-A97E-5FD11C0E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B5FD-67F9-465B-97BE-0855D295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B45A-25C0-48E8-8115-CD3ED6C3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658E-AA95-4463-A790-7D919BD8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84D3-9D83-459F-9BED-BDC019D6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864-36C8-417C-9419-387A47B4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CF5-F780-442A-835A-428CCF60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2A0-CDEE-43F3-A33E-01FDC816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DE6-D5F5-49C7-959A-6ED3BE0F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DE1-C14C-4951-B5AF-F13B49D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986-47E2-4B62-AF56-79F1B52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0FC-BC39-407F-9D8E-8CDA8CB8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2752-37B4-456C-BAB7-D7C989638A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C14A-A3F7-4AD4-BBC6-592B20B9BC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eaching Practice 2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SSENTI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IRA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257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rom Willis J.  1997. A Framework for TBL.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with TB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we learn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iring and grou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thinking on 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 and soft ver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p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modern pedag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staff</cp:lastModifiedBy>
  <dcterms:modified xsi:type="dcterms:W3CDTF">2009-12-08T15:34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