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A0407-66FF-479B-9317-C68AC78EE0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nguistic Ethnography (LE) is a growing body of research which, like my study, combines linguistics and ethnography to produce detailed and nuanced studies of talk in particular contexts in order to ‘understand the social processes we are involved in’ (Rampton, 2007:12).   Linguistic ethnographers believe in a set of ontological precepts, such as rejecting ‘the objectivism found in e.g. structuralist linguistics’ (UK LEF, 2004:5; Rampton, 2007), and ‘the overriding importance of reflexivity ‘about their own intellectual assumptions (UK LEF, 2004: 5). Epistemologically, they believe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nguage and the social world are mutually shaping and that close analysis of situated language use can provide both fundamental and distinctive insights into the mechanisms and dynamics of social and cultural production in everyday activity (ibid: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nguistic Ethnography (LE) is a growing body of research which, like my study, combines linguistics and ethnography to produce detailed and nuanced studies of talk in particular contexts in order to ‘understand the social processes we are involved in’ (Rampton, 2007:12).   Linguistic ethnographers believe in a set of ontological precepts, such as rejecting ‘the objectivism found in e.g. structuralist linguistics’ (UK LEF, 2004:5; Rampton, 2007), and ‘the overriding importance of reflexivity ‘about their own intellectual assumptions (UK LEF, 2004: 5). Epistemologically, they believe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nguage and the social world are mutually shaping and that close analysis of situated language use can provide both fundamental and distinctive insights into the mechanisms and dynamics of social and cultural production in everyday activity (ibid: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9F5C64-B99F-4F2A-BEFA-CF19DAD88D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0568C-1CC1-46BC-B75F-2BBEB96D9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D9550D-CF4C-444E-A2ED-54928B975B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4FEE22-DD7C-4C2C-B46E-EEEAF50C58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151897-987F-4B50-9105-D960B7646D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94D803-ED9C-42C1-9487-AA64793D0C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7D9297-ECFC-4B10-ACC8-F6A0373A4E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0A2F4D-40C1-49F0-887E-5FAAC87A53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EBB0E6-B6AA-4571-AA05-96548868E2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2EA111-39E9-49E9-BA68-65C3A51993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08D8B-C77C-4BD1-B6FA-49E77A2C55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5458B-6559-4E7D-B4EE-AE24571FB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8F2F8F-5FF4-4CE3-B15F-B5F01AD2E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BE22FC-6537-4AE7-8698-B7CAC0201B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9483F7-9D30-48E7-B425-CAF5E62233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2CD564-928A-49DE-AFE9-CD7896E446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C79203-AD4A-401F-B2C8-55608ECA1F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B74A7-831B-4058-84C7-8C38B6F14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F0170-02BB-4903-B498-4E6233584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88DEE-5588-4823-943F-677AE9CA3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304D6-E1D4-48E7-90BE-328929913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8CFAA-D233-4B98-85D5-AE6817601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58BB8-7E1C-459F-BCFE-7358AA9F4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F9451-6CD5-4939-B3DB-FED703AF3C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80C48-6E4A-43FF-A6B3-957E542DCA3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68B4E-A1BE-4869-82AB-824CC19181A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Feedback in pre-service English language teacher training: discourses of process and power</a:t>
            </a:r>
            <a:endParaRPr b="1" lang="en-US" sz="32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Fiona Copland</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Findings (funny word for this kind of work, I think)</a:t>
            </a:r>
            <a:endParaRPr b="1" lang="en-US" sz="3200" spc="-1" strike="noStrike">
              <a:solidFill>
                <a:srgbClr val="006666"/>
              </a:solidFill>
              <a:latin typeface="Arial"/>
            </a:endParaRPr>
          </a:p>
        </p:txBody>
      </p:sp>
      <p:sp>
        <p:nvSpPr>
          <p:cNvPr id="121" name="PlaceHolder 1"/>
          <p:cNvSpPr>
            <a:spLocks noGrp="1"/>
          </p:cNvSpPr>
          <p:nvPr>
            <p:ph/>
          </p:nvPr>
        </p:nvSpPr>
        <p:spPr>
          <a:xfrm>
            <a:off x="838080" y="2361960"/>
            <a:ext cx="7693200" cy="6094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eedback at this institution constitutes a ‘genre’ wit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22" name=""/>
          <p:cNvSpPr/>
          <p:nvPr/>
        </p:nvSpPr>
        <p:spPr>
          <a:xfrm>
            <a:off x="2438280" y="5942880"/>
            <a:ext cx="14967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endParaRPr b="0" lang="en-US" sz="1800" spc="-1" strike="noStrike">
              <a:solidFill>
                <a:srgbClr val="003366"/>
              </a:solidFill>
              <a:latin typeface="Arial"/>
            </a:endParaRPr>
          </a:p>
        </p:txBody>
      </p:sp>
      <p:sp>
        <p:nvSpPr>
          <p:cNvPr id="123" name=""/>
          <p:cNvSpPr/>
          <p:nvPr/>
        </p:nvSpPr>
        <p:spPr>
          <a:xfrm>
            <a:off x="1066680" y="39625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4" name=""/>
          <p:cNvSpPr/>
          <p:nvPr/>
        </p:nvSpPr>
        <p:spPr>
          <a:xfrm>
            <a:off x="990720" y="4191120"/>
            <a:ext cx="7772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5" name=""/>
          <p:cNvSpPr/>
          <p:nvPr/>
        </p:nvSpPr>
        <p:spPr>
          <a:xfrm>
            <a:off x="838080" y="2819520"/>
            <a:ext cx="16948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6699"/>
                </a:solidFill>
                <a:latin typeface="Arial"/>
              </a:rPr>
              <a:t>‘</a:t>
            </a:r>
            <a:r>
              <a:rPr b="0" lang="en-GB" sz="1800" spc="-1" strike="noStrike">
                <a:solidFill>
                  <a:srgbClr val="666699"/>
                </a:solidFill>
                <a:latin typeface="Arial"/>
              </a:rPr>
              <a:t>conventionalised expectations that members of a social group or network use to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6699"/>
                </a:solidFill>
                <a:latin typeface="Arial"/>
              </a:rPr>
              <a:t>shape and construe the communicative activity that they are engaged in.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6699"/>
                </a:solidFill>
                <a:latin typeface="Arial"/>
              </a:rPr>
              <a:t>These expectations include a sense of the likely tasks on hand, the roles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6699"/>
                </a:solidFill>
                <a:latin typeface="Arial"/>
              </a:rPr>
              <a:t>and relationships typically involved, the ways the activity can be organised,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6699"/>
                </a:solidFill>
                <a:latin typeface="Arial"/>
              </a:rPr>
              <a:t>and the kinds of resources suited to carrying it out’ (Rampton, 2006:30).</a:t>
            </a:r>
            <a:endParaRPr b="0" lang="en-US" sz="1800" spc="-1" strike="noStrike">
              <a:solidFill>
                <a:srgbClr val="003366"/>
              </a:solidFill>
              <a:latin typeface="Arial"/>
            </a:endParaRPr>
          </a:p>
        </p:txBody>
      </p:sp>
      <p:sp>
        <p:nvSpPr>
          <p:cNvPr id="126" name=""/>
          <p:cNvSpPr/>
          <p:nvPr/>
        </p:nvSpPr>
        <p:spPr>
          <a:xfrm>
            <a:off x="1066680" y="4419720"/>
            <a:ext cx="769644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Features of the genre include:  a set of phases, the order of which is affected by the feedback framework introduced; different role sets for trainers and trainees; focus on pedagogy in as a topic for discussion; sets of linguistic resources for enacting face threatening acts such as criticising.</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Gatekeeping</a:t>
            </a:r>
            <a:endParaRPr b="1" lang="en-US" sz="3600" spc="-1" strike="noStrike">
              <a:solidFill>
                <a:srgbClr val="006666"/>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rainers take on a gatekeeping role with regard to the TEFL profession (Roberts and Sarangi, 1999).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o this in three way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	</a:t>
            </a:r>
            <a:r>
              <a:rPr b="0" lang="en-GB" sz="2400" spc="-1" strike="noStrike">
                <a:solidFill>
                  <a:srgbClr val="006666"/>
                </a:solidFill>
                <a:latin typeface="Arial"/>
              </a:rPr>
              <a:t>assessing according to the criteria</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66"/>
                </a:solidFill>
                <a:latin typeface="Arial"/>
              </a:rPr>
              <a:t>	</a:t>
            </a:r>
            <a:r>
              <a:rPr b="0" lang="en-GB" sz="2400" spc="-1" strike="noStrike">
                <a:solidFill>
                  <a:srgbClr val="006666"/>
                </a:solidFill>
                <a:latin typeface="Arial"/>
              </a:rPr>
              <a:t>assessing according to their own ‘hidden’ agendas (Bernstein, 2000)</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66"/>
                </a:solidFill>
                <a:latin typeface="Arial"/>
              </a:rPr>
              <a:t>	</a:t>
            </a:r>
            <a:r>
              <a:rPr b="0" lang="en-GB" sz="2400" spc="-1" strike="noStrike">
                <a:solidFill>
                  <a:srgbClr val="006666"/>
                </a:solidFill>
                <a:latin typeface="Arial"/>
              </a:rPr>
              <a:t>assessing according to how trainees seem to ‘be like us’ (performing the genre, accepting criticism, accepting truth claims made be trainers and so o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rategies</a:t>
            </a: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rainers: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isseminate information about ‘best practic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Use linguistic devices such as hedging and performing certainty</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Control who speaks (‘probing’ questions)and about what.</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rainee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fuse to take par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Challenge trainers’ epistemological discourse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Play the gam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paredness for feedback?</a:t>
            </a:r>
            <a:endParaRPr b="1" lang="en-US" sz="3600" spc="-1" strike="noStrike">
              <a:solidFill>
                <a:srgbClr val="006666"/>
              </a:solidFill>
              <a:latin typeface="Arial"/>
            </a:endParaRPr>
          </a:p>
        </p:txBody>
      </p:sp>
      <p:sp>
        <p:nvSpPr>
          <p:cNvPr id="13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No – feedback is complex and polygeneric.</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rainers learn through ‘apprenticeship’ model (Community of Practice).  Becomes an automatic and hegemonic practice.  Unaware (I believe) of the impact of their practice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rainees get very little training in ‘conventionalised expectations’ of feedback.  Must sink or swim.</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earch Questions</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are the generic features of feedback in this context?</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ich hegemonic positions are enacted and reproduced by these trainers?</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strategies do these trainers and trainees use to introduce, maintain and negotiate power in their feedback sessions?</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e these trainers and trainees adequately prepared to take part in the feedback genre?</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thodology</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Linguistic Ethnography (LE) is a growing body of research which combines linguistics and ethnography to produce detailed and nuanced studies of talk in particular contexts in order to ‘understand the social processes we are involved in’ (Rampton, 2007:12).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Linguistic ethnographers believe in a set of ontological precepts, such as rejecting ‘the objectivism found in e.g. structuralist linguistics’ (UK LEF, 2004:5; Rampton, 2007), and ‘the overriding importance of reflexivity’ about their own intellectual assumptions (UK LEF, 2004: 5).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thodology</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pistemologically, they believe th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t>
            </a:r>
            <a:r>
              <a:rPr b="0" lang="en-US" sz="2800" spc="-1" strike="noStrike">
                <a:solidFill>
                  <a:srgbClr val="003366"/>
                </a:solidFill>
                <a:latin typeface="Arial"/>
              </a:rPr>
              <a:t>language and the social world are mutually shaping and that close analysis of situated language use can provide both fundamental and distinctive insights into the mechanisms and dynamics of social and cultural production in everyday activity’ (ibid:2).</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does this mean in practice?</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ringing together </a:t>
            </a:r>
            <a:r>
              <a:rPr b="0" i="1" lang="en-US" sz="2800" spc="-1" strike="noStrike">
                <a:solidFill>
                  <a:srgbClr val="003366"/>
                </a:solidFill>
                <a:latin typeface="Arial"/>
              </a:rPr>
              <a:t>and integrating</a:t>
            </a:r>
            <a:r>
              <a:rPr b="0" lang="en-US" sz="2800" spc="-1" strike="noStrike">
                <a:solidFill>
                  <a:srgbClr val="003366"/>
                </a:solidFill>
                <a:latin typeface="Arial"/>
              </a:rPr>
              <a:t> ethnographic and linguistic approaches to data collection and analysi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did I do?</a:t>
            </a:r>
            <a:endParaRPr b="1" lang="en-US" sz="36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ata Collection:</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Observed feedback on an intensive and semi-intensive CELTA programme (four trainers; nine trainees).  Took fieldnotes – later ‘written up’.</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corded all feedback on digital recorder.</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corded some feedback on video.</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nterviewed trainers before and after their course.</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nterviewed trainees after their course, in a group.</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alysis</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t>
            </a:r>
            <a:r>
              <a:rPr b="0" lang="en-US" sz="2800" spc="-1" strike="noStrike">
                <a:solidFill>
                  <a:srgbClr val="003366"/>
                </a:solidFill>
                <a:latin typeface="Arial"/>
              </a:rPr>
              <a:t>towards the later stages in particular, the stages were simultaneous rather than consecutive.  I constantly revisited earlier stages as I worked on later stages and consulted all data sets throughout the process’ (Me – my thesi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lems with my analysis</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nitial confusion – what to do with all this da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aking the first step – was I doing it ‘righ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 priori vs (and?) emerging categori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Speech act categorisat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mount of tim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Was I drawing the ‘right’ conclusions? Had I missed something?  Was my knowledge of CA, for example, strong enough?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Was it obviou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istakes?</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anscribing all the d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alysing all the data?</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ducation Staff</cp:lastModifiedBy>
  <dcterms:modified xsi:type="dcterms:W3CDTF">2008-04-25T10:40:05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