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86C-AC6B-497B-AC70-1E022B1C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3C0-EB6B-4464-90B5-97DB5AC3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DC0-628D-4766-85D7-08B6A712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5AF-A76B-4718-88ED-37FE7F88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BB5C-D119-4E8D-8E02-8F43FC61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F197-6F1D-4FE3-A6FC-458EDA1A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366C-CA51-4B69-90BC-9BD0DE58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9FEF-A7C2-4F97-B54C-13DF388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986B-A521-4AA7-AD78-92DBAF3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CE12-82F0-4104-820E-A35F6328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013E-560C-4640-ABA3-6FAFEE47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D05-9B11-42AA-A309-1B77F6BC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9D0F-F174-46C7-A66C-8CB65669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C884-41D5-4FB4-8398-144E7895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9480-F15B-49AF-837A-C434C31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DE38-4C76-451F-981A-E07902E5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73ED-BEDF-4AFF-99C9-9D1B32FE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104-D26D-49C5-8591-E906C90A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E13-1407-4345-8DCD-919C4C59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129-7F40-4373-88C2-C61CECA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E50-0F12-4F25-89DF-625F85A8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BB0-36CA-4C62-9B10-5E902C6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906-3C85-4216-A888-7CE86107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BE7-C5AC-4C82-9AE3-AC98472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A10A-1E28-4AEA-B2BA-45E9F7B30F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1E77-BF67-43B6-BD93-D88F8B2539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and Teaching Languages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 (another language)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 learners from the start (praise, make activities achievable, warm up class, create good atmosphere, respond to learners as peop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learners to have a strong self-image of themselves as successful language learners with goals and strateg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urces of input for learn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ublicity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pes/CDs/DV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!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2578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tories with visual aids, repetition, eye contact, stress and into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involved in the sto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grade language effe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can talk too mu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et boring if done repeate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find ways to make listening interesting (funny story, puzzle, personal interes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/CD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- stage appro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has been d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s exactly what has been s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learners opportunity to hear other voices/acc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context – teacher has to prov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mbodied’: no ‘human’ interaction between tape and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stop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does not respond to learners’ immediate difficul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c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each other (this is valuable!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the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session, participants will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knowledge and understanding of how people learn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d these principles to classroom learning and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ed their own practice in light of these princi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mistak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takes are natural and are evidence of learn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ule of thumb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ct mistakes in controlled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correct in free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 note of mistakes and correct these as a class (e.g. ‘I heard someone say…….Is this correct?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own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do you do most of in your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mprehensible in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opportunities for out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for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SSENTIA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SIRABL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om Willis J. (1996)  A Framework for Task-based Learning.  London: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mus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nt to lea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otivation). S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work with learners’ natural motivation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give learners the opportunities to see themselves as successfu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find out what learners w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ersonalise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u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y class there was too much emphasis on writing and not enough on listening and speaking, especially speaking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, the fact that the class always starts in the same way means that I switch off mentally – oh no, no that again.  Generally I am someone who needs variet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I can remember is how to order one cup of coffee with sugar in it, and I don’t even take sugar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osure to ‘comprehensible input’ (after Krashen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ers must be able to mak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ome kind of sens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 what they are reading/he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difficul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be able to make sen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eas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learn anything n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ies for ‘language use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need to us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guage to 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, for example, chat, negotiate, discuss, exchange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should be given opportunities f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led pract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grammar, vocabulary, phonology, discourse)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e pract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ou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 she would go round the whole group one person at a time.  If there was a dialogue, she would take one part and the students would take another part…the whole thing would take about twenty minutes and you would only get your three minutes of glory.  I found that quite boring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ive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rm, meaning and use of language,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nd analy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m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ing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04-18T10:07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502425686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