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79E-5815-4037-8642-AF8FC756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EA7-0D26-4985-ABBE-6B37220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E2E-12E8-4BDF-8F8D-585BC1AB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134-47BC-48B0-8303-48C67EB0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F75-77EF-4DAE-AF88-F7ECDD55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E7E6-D8F1-4464-A044-45E58B0E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3AA2-4195-46FB-964E-1DA065F2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87F1-593B-41BF-8981-852E3EF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6A58-D334-4A5E-9E2E-97CA490D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B364-56AD-4711-99B8-5ADCA10D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CDE0-16C2-4FEF-81A8-CABA23A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F52-E2A0-4DA3-BBBF-F3362B83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A32B-7116-4B8D-9F1B-37C946E5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7CCC-BE6E-44A4-A35C-B7B7F903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82AD-1D8A-4358-B5B0-00B58251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00C4-634B-4A6C-B893-60C9E9D3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C87-DA20-4ECC-8D46-F2BEFFFC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C0C-7F3E-4644-A5E8-821DB828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E9DB-18B5-4ABA-A89C-329DD42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A80-CBE2-42E7-955B-500AFB5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4CB-11A2-411B-8F0E-C40C0397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24F-493A-43D2-B416-54B116F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9D1-29E3-4EB2-90FB-984C120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212-FA77-4D1F-B79F-4922B04F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B881-8937-4904-B017-29E4B78EE7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0C2E-4EE7-492F-BE63-97C4C0AE92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fferentiation: a worksho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f.m.copland@aston.ac.uk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.  The fact that the class always starts in the same way means I switch off mentally – oh no, not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th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gain! Generally I am someone who needs a lot of variety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lara, student at Brassh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4648320"/>
            <a:ext cx="128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 kinds of learning pre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, aural, kinaesthe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alytical/holi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ole class/group/pair/individ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insically motivated/extrinsically motiva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prac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differentiated questioning in your practice? Please explain your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 you use other kinds of differenti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nts will develop knowledge and understanding of the concept of different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apply this knowledge and understanding to developing resour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articipants will share their differentiation pract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: a defini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fferentiation is adopting different strategies that ensure success in learning for all, by accommodating individual differences of any kind.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tty G. (2004)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eaching Toda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Cheltenham/Nelson Thor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n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tside interest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Show and t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rgeted language for particular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one student a week?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wor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can we differentiate according to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ducational backgroun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hare educational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 What students like/don’t like about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 Cater for students who have formal    understanding of language/don’t have formal understanding of langu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tion according to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lev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atch the talk and complete the worksheet by adding verbs in the imper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write in the words from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tudents will fill in the words independent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ng according to level – key facto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extension tasks for those students who finish quick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that the first questions/activities are easily completed by all stu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use of questioning.  Are your questions meant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halleng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to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stil confide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is the most difficult question to answer?  Put in order, simplest first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3124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li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3962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difference between a scone and a bisc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029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ngredients do you need to make sco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fferentiation and learning pre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, she would go round the whole group one person at a time.  If there was a dialogue, she would take the other part….The whole thing would take about twenty minutes and you only got your 3 minutes of glory.  I found that quite bor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hoebe, student at Brasshou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53080" y="5105520"/>
            <a:ext cx="1830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7-11-23T10:55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-5262230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