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138-1EDB-46EF-BC86-82320371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D1EE-33DA-48BB-8662-B493C0C2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270-5CB6-4B7A-961E-A2F79AFE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813-3915-4D9C-B46C-CDBC7545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C81A-604C-4D63-ACCF-1941BCF0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AF86-175D-4923-952A-D0041BC6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7DB8-28D7-4F93-ADB0-0D3807A3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0826-AD89-4C01-A54E-E4421FEA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CEB3-4CDE-406F-BDC0-E02D9019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D535-7970-42E3-A9D3-4C592D5A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1CEF-EB98-4BEB-B0F7-3C887801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491-A0D6-43B7-A907-DACD47B1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8C5F-8D69-4C0E-8B48-0C3D23E5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B351-0D9A-41A1-823F-6E881E18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1132-8D81-4699-A549-B6053338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99EA-38A1-4CE8-85D5-E5B03FFC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50DB-80D6-47E1-805E-77246DF3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132-7EFB-43D0-8CE7-4BBED0B1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321-60AF-4C57-8506-C35D46E5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41F-6465-43D2-9CF7-F81171CB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501B-22C9-46FF-B5FB-EE1C1A8B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55CE-A812-43AC-A9D3-DFBB984C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8E51-251F-4594-87FA-60642934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C3BE-1FB5-4CC2-B3BA-C88F292F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0499-86C8-4FAC-9D40-27C3F96F74F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C929-98B9-4258-AE3C-D17EEBCB0A5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pproaches to Teaching and Learn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iscours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Rel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34290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38862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rniture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191120" y="441936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487692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4952880"/>
            <a:ext cx="0" cy="533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49528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4952880"/>
            <a:ext cx="0" cy="6098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5562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ai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5562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oken Discourse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pening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i/hell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aking a turn: Yes, but.. ;surely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olding a turn: er; um; anyway; you know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assing a turn: what do you think; isn’t i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losing:  Right; Well, anyway; Okay then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re-sequence: listen, did I tell you abou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pair: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self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I really meant was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6699"/>
                </a:solidFill>
                <a:latin typeface="Arial"/>
              </a:rPr>
              <a:t>others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:  Sorry, I don’t get what you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Upshot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lf: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I’m getting at is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ther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are you getting a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ourse Inton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spoken text, what are the follow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ch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l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ssimi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ru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90360" y="23619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discours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text, spoken or written, which consist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 more than one cla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discourse analysi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The description of language above th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ntence’.  (McCarthy, 199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cohere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Coherence is something created by th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er in the act of reading the text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herence is the feeling that the tex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gs together, that it makes sense, that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 is not just a jumble of sentences’. (ibi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cohes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the links are made between clauses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are two ‘technical’ types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mmatical and lexic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mmatical Coh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ference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aphoric; cataphori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The dog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jumped at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the man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.  It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it</a:t>
            </a: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hi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They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rowed round the sweet seller: </a:t>
            </a:r>
            <a:r>
              <a:rPr b="0" lang="en-GB" sz="2800" spc="-1" strike="noStrike">
                <a:solidFill>
                  <a:srgbClr val="666699"/>
                </a:solidFill>
                <a:latin typeface="Arial"/>
              </a:rPr>
              <a:t>John, Paul, Simon and F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ubstitu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minal; verbal; claus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said he would take early retirement and he has to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the blue shoes or the red 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won the competition!  That’s great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lipsi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minal; verbal; claus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Fred? Y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first lecture lasted an hour; the second was over in 20 minu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s she remarried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but she wi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junction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ditive; adversative; causal;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mpo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Which is which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/also/furtherm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/theref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n/next/after that/ fin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/although/desp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Cohe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wo types: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petition and colloc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Halliday and Hasan, 197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cCarthy (91) identifies three types of repetition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rect repetition (A dog, the do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ynonomy (A dog, the box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tonomy. (The war; the peac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xical Rel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eneral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perordin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34290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886200"/>
            <a:ext cx="3809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396252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3886200"/>
            <a:ext cx="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3962520"/>
            <a:ext cx="0" cy="3045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3886200"/>
            <a:ext cx="0" cy="763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495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4495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ypony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2819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install</cp:lastModifiedBy>
  <dcterms:modified xsi:type="dcterms:W3CDTF">2007-11-22T12:53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