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564E-2BD2-4A9D-A2EB-82755F60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52BC-1335-474C-805C-613902EE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F602-BE55-4AF6-B08E-298C2A17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9C05-E85A-4AD3-A415-2F2A12B1A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ACE5-B623-4508-A55E-82AC54DF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FCE8-9CFE-42C1-8DE7-3FFEB90F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7E64-A736-444B-973E-DA22A752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A46D-2199-4D13-9D63-77965853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A245-15B4-42EA-A183-D9C8E118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F20D-1AD8-4628-A328-8707E49B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8847-E52F-4FD2-AB13-0E469B77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4C85-7F2D-459F-B2F9-90148124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C232-DA65-4A2B-A5C8-2DDFB1C1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9A5A-CB9B-4219-A752-FA2BE96F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DEC5-6452-4D83-AB7E-E134035B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EB54-2BD2-4459-88D2-A1B54650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C596-460F-4D22-9C0D-7F0DF7DA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1949-B21A-412D-9C53-4370624E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2417-E218-4831-AD65-1EBF8FD4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2658-BA5D-487E-AEA0-42BF1E5D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B8F5-9AE7-4F49-91DA-F341A3FC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5357-F4B0-411F-8BCC-95CD09F3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BE80-BA02-4459-93DB-0376EC7A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50F4-6E6A-4FD9-8B4F-DD87BA58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EB7A-44FF-4FAF-8414-9B96233E541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8C89-D681-4519-8100-CA0C888AC87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eaching Practice 2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ask-based learn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ditions for Language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2667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SSENTIAL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pos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28954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572000" y="251496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2438280"/>
            <a:ext cx="304812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SIRAB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52578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From Willis J.  1997. A Framework for TBL. Longm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id you learn English?  Which was dominant for you: exposure, use, motivation or instruc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agree that these are the conditions for language learning?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what extent do you think instruction is essentia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lems with TB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icip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we learn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iring and group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pa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ther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urrent thinking on tas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 and soft ver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ing prefer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-modern pedagog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staff</cp:lastModifiedBy>
  <dcterms:modified xsi:type="dcterms:W3CDTF">2009-12-08T15:34:0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