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CA28-B0EE-4F54-823E-3E57E9D030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guistic Ethnography (LE) is a growing body of research which, like my study, combines linguistics and ethnography to produce detailed and nuanced studies of talk in particular contexts in order to ‘understand the social processes we are involved in’ (Rampton, 2007:12).   Linguistic ethnographers believe in a set of ontological precepts, such as rejecting ‘the objectivism found in e.g. structuralist linguistics’ (UK LEF, 2004:5; Rampton, 2007), and ‘the overriding importance of reflexivity ‘about their own intellectual assumptions (UK LEF, 2004: 5). Epistemologically, they believ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guistic Ethnography (LE) is a growing body of research which, like my study, combines linguistics and ethnography to produce detailed and nuanced studies of talk in particular contexts in order to ‘understand the social processes we are involved in’ (Rampton, 2007:12).   Linguistic ethnographers believe in a set of ontological precepts, such as rejecting ‘the objectivism found in e.g. structuralist linguistics’ (UK LEF, 2004:5; Rampton, 2007), and ‘the overriding importance of reflexivity ‘about their own intellectual assumptions (UK LEF, 2004: 5). Epistemologically, they believ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EBEE0-14B4-46BD-81BC-B4B5D915D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45609-FD2A-4BEF-B834-D0C309C14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AF1E9-A33C-4804-A1F1-ED0EDA16F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A42D7-9AB4-4D7E-91E2-50DDA7D26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02A90-A807-411F-8FD8-1D36EB737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B3520-B4C3-4605-8573-C649B3A93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0A99E-84A8-44E3-833C-8311DF75A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AF2C8-B705-412C-A1C6-D6A8A4732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10ACA-43B8-480E-A973-E599FAB42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3AEB2-8D3B-4E55-BB87-F265ED77D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A797B-DFE7-42C4-927D-1F5A1673A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D8E50-5915-4AA2-9432-A34560839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65717-1427-4F9A-BEE1-F04DD50FE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B6BBF-F1C3-4E6E-94F4-76A52946C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6FC52-6087-4F78-9D2C-C382665C1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AC70D7-373E-482A-9E6D-FBA3C57E0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87894-27A8-47F8-9346-CE7417CF9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B3654-490B-4E61-B32A-9283BB41D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746DC-5BF5-4CD0-869D-F38EE59CD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D7474-82E6-4EFA-9B6E-DDABA8A6C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023A7-D20B-40FD-B71F-9856C2D4A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118A8-03F0-47AC-95A3-2750CE4F8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B45A2-29CC-4973-9868-007C1F28E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58EB3-5964-47F2-9399-15CED89E5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5972-0D24-4DD3-90E2-041E13576B6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15C3-2E8C-4C11-8263-9B61F5A3B8B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eedback in pre-service English language teacher training: discourses of process and power</a:t>
            </a:r>
            <a:endParaRPr b="1" lang="en-US" sz="32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iona Copland</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indings (funny word for this kind of work, I think)</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609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dback at this institution constitutes a ‘genre’ wit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2" name=""/>
          <p:cNvSpPr/>
          <p:nvPr/>
        </p:nvSpPr>
        <p:spPr>
          <a:xfrm>
            <a:off x="2438280" y="5942880"/>
            <a:ext cx="14967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123" name=""/>
          <p:cNvSpPr/>
          <p:nvPr/>
        </p:nvSpPr>
        <p:spPr>
          <a:xfrm>
            <a:off x="1066680" y="39625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
          <p:cNvSpPr/>
          <p:nvPr/>
        </p:nvSpPr>
        <p:spPr>
          <a:xfrm>
            <a:off x="990720" y="4191120"/>
            <a:ext cx="7772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
          <p:cNvSpPr/>
          <p:nvPr/>
        </p:nvSpPr>
        <p:spPr>
          <a:xfrm>
            <a:off x="838080" y="2819520"/>
            <a:ext cx="16948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t>
            </a:r>
            <a:r>
              <a:rPr b="0" lang="en-GB" sz="1800" spc="-1" strike="noStrike">
                <a:solidFill>
                  <a:srgbClr val="666699"/>
                </a:solidFill>
                <a:latin typeface="Arial"/>
              </a:rPr>
              <a:t>conventionalised expectations that members of a social group or network use to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shape and construe the communicative activity that they are engaged i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These expectations include a sense of the likely tasks on hand, the roles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nd relationships typically involved, the ways the activity can be organised,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6699"/>
                </a:solidFill>
                <a:latin typeface="Arial"/>
              </a:rPr>
              <a:t>and the kinds of resources suited to carrying it out’ (Rampton, 2006:30).</a:t>
            </a:r>
            <a:endParaRPr b="0" lang="en-US" sz="1800" spc="-1" strike="noStrike">
              <a:solidFill>
                <a:srgbClr val="003366"/>
              </a:solidFill>
              <a:latin typeface="Arial"/>
            </a:endParaRPr>
          </a:p>
        </p:txBody>
      </p:sp>
      <p:sp>
        <p:nvSpPr>
          <p:cNvPr id="126" name=""/>
          <p:cNvSpPr/>
          <p:nvPr/>
        </p:nvSpPr>
        <p:spPr>
          <a:xfrm>
            <a:off x="1066680" y="4419720"/>
            <a:ext cx="7696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Features of the genre include:  a set of phases, the order of which is affected by the feedback framework introduced; different role sets for trainers and trainees; focus on pedagogy in as a topic for discussion; sets of linguistic resources for enacting face threatening acts such as criticis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atekeeping</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rs take on a gatekeeping role with regard to the TEFL profession (Roberts and Sarangi, 1999).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o this in three way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6666"/>
                </a:solidFill>
                <a:latin typeface="Arial"/>
              </a:rPr>
              <a:t>assessing according to the criteria</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	</a:t>
            </a:r>
            <a:r>
              <a:rPr b="0" lang="en-GB" sz="2400" spc="-1" strike="noStrike">
                <a:solidFill>
                  <a:srgbClr val="006666"/>
                </a:solidFill>
                <a:latin typeface="Arial"/>
              </a:rPr>
              <a:t>assessing according to their own ‘hidden’ agendas (Bernstein,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	</a:t>
            </a:r>
            <a:r>
              <a:rPr b="0" lang="en-GB" sz="2400" spc="-1" strike="noStrike">
                <a:solidFill>
                  <a:srgbClr val="006666"/>
                </a:solidFill>
                <a:latin typeface="Arial"/>
              </a:rPr>
              <a:t>assessing according to how trainees seem to ‘be like us’ (performing the genre, accepting criticism, accepting truth claims made be trainers and so 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ie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rs: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sseminate information about ‘best practic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se linguistic devices such as hedging and performing certaint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ntrol who speaks (‘probing’ questions)and about what.</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raine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use to take par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hallenge trainers’ epistemological discours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lay the gam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paredness for feedback?</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No – feedback is complex and polygeneric.</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ainers learn through ‘apprenticeship’ model (Community of Practice).  Becomes an automatic and hegemonic practice.  Unaware (I believe) of the impact of their practic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rainees get very little training in ‘conventionalised expectations’ of feedback.  Must sink or swi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Question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re the generic features of feedback in this context?</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ch hegemonic positions are enacted and reproduced by these trainer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rategies do these trainers and trainees use to introduce, maintain and negotiate power in their feedback sessions?</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e these trainers and trainees adequately prepared to take part in the feedback genre?</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inguistic Ethnography (LE) is a growing body of research which combines linguistics and ethnography to produce detailed and nuanced studies of talk in particular contexts in order to ‘understand the social processes we are involved in’ (Rampton, 2007:12).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inguistic ethnographers believe in a set of ontological precepts, such as rejecting ‘the objectivism found in e.g. structuralist linguistics’ (UK LEF, 2004:5; Rampton, 2007), and ‘the overriding importance of reflexivity’ about their own intellectual assumptions (UK LEF, 2004: 5).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hodolog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pistemologically, they believe th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language and the social world are mutually shaping and that close analysis of situated language use can provide both fundamental and distinctive insights into the mechanisms and dynamics of social and cultural production in everyday activity’ (ibid:2).</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es this mean in practice?</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inging together </a:t>
            </a:r>
            <a:r>
              <a:rPr b="0" i="1" lang="en-US" sz="2800" spc="-1" strike="noStrike">
                <a:solidFill>
                  <a:srgbClr val="003366"/>
                </a:solidFill>
                <a:latin typeface="Arial"/>
              </a:rPr>
              <a:t>and integrating</a:t>
            </a:r>
            <a:r>
              <a:rPr b="0" lang="en-US" sz="2800" spc="-1" strike="noStrike">
                <a:solidFill>
                  <a:srgbClr val="003366"/>
                </a:solidFill>
                <a:latin typeface="Arial"/>
              </a:rPr>
              <a:t> ethnographic and linguistic approaches to data collection and analysi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id I do?</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ata Collection:</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d feedback on an intensive and semi-intensive CELTA programme (four trainers; nine trainees).  Took fieldnotes – later ‘written up’.</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ed all feedback on digital recorder.</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ed some feedback on video.</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rviewed trainers before and after their course.</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rviewed trainees after their course, in a grou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alysi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a:t>
            </a:r>
            <a:r>
              <a:rPr b="0" lang="en-US" sz="2800" spc="-1" strike="noStrike">
                <a:solidFill>
                  <a:srgbClr val="003366"/>
                </a:solidFill>
                <a:latin typeface="Arial"/>
              </a:rPr>
              <a:t>towards the later stages in particular, the stages were simultaneous rather than consecutive.  I constantly revisited earlier stages as I worked on later stages and consulted all data sets throughout the process’ (Me – my thes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 with my analysi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itial confusion – what to do with all this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aking the first step – was I doing it ‘righ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 priori vs (and?) emerging categor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peech act categorisa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mount of tim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as I drawing the ‘right’ conclusions? Had I missed something?  Was my knowledge of CA, for example, strong enough?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as it obviou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stakes?</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cribing all th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lysing all the dat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04-25T10:40:05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