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D99-5242-41DA-8797-F34CCEA5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143-DB70-4A7F-9924-56D73D0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6ED-5DB8-4C90-B821-A627B1E2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0FE-C58A-4A19-8CED-0136BC2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F04C-BBFC-4BD3-A821-3FE6640C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C3F9-3BDC-4EBA-90DD-93F4C60F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91C3-16F2-4748-8A76-DE2ABB6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10E4-EBF1-4B23-B2FF-94A1692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7783-3131-456E-8E46-75229C70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5243-2C8C-4198-A997-EB794581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409C-78FC-40BB-B7B4-E1D8BA55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832-8B0A-4F87-B655-C09CDCDD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281-0614-43F0-81F0-8E83D055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7F67-0E0C-4204-9982-D5EE5796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A109-76B9-4F59-93A5-9D458505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9411-BC55-4B49-ABA7-C9077094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C59D-4DA6-4F8D-A735-EE926537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89F-34EC-4590-843A-8928FA8F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DC6D-A43F-47C7-B3E0-C1A0E7D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D1D-42DC-4A5D-AB5F-F100C3E7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2AD-75B4-4B44-945D-5ABE0962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7DC-DD47-441C-9E9C-A5DC0611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BEF-B617-4503-B83A-3DA5C0A5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7D0-E3B3-4518-AD03-E1642BAA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778B-41F8-4B52-9E7F-6EB58F049C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35F1-2822-45B6-8B28-FECC2CEBF6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and Teaching Languages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ona Coplan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id you learn English (another language)?  Which was dominant for you: exposure, use, motivation or instruc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you agree that these are the conditions for language learning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what extent do you think instruction is essentia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 learners from the start (praise, make activities achievable, warm up class, create good atmosphere, respond to learners as people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learners to have a strong self-image of themselves as successful language learners with goals and strateg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In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urces of input for learn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n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wspap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ublicity materi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pes/CDs/DV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OU!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2578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1584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port stories with visual aids, repetition, eye contact, stress and intona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di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 prepar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involved in the sto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er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grade language effe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can talk too mu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et boring if done repeate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d to find ways to make listening interesting (funny story, puzzle, personal interes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/CD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- stage approac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list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has been d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eats exactly what has been s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ies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learners opportunity to hear other voices/acc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e as Tex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context – teacher has to provi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mbodied’: no ‘human’ interaction between tape and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icult to stop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xt does not respond to learners’ immediate difficul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rehensible Outpu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c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each other (this is valuable!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ak to the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co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session, participants will hav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knowledge and understanding of how people learn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these principles to classroom learning and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ed their own practice in light of these princip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bout mistak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takes are natural and are evidence of learn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ule of thumb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ct mistakes in controlled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correct in free prac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a note of mistakes and correct these as a class (e.g. ‘I heard someone say…….Is this correct?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own practic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do you do most of in your clas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iv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mprehensible in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opportunities for outp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for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ditions for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2667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SSENTIAL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posu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895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72000" y="2514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2438280"/>
            <a:ext cx="30481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DESIRABL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5257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rom Willis J. (1996)  A Framework for Task-based Learning.  London: Longm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mus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nt to lear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motivation). S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work with learners’ natural motivation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give learners the opportunities to see themselves as successful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find out what learners wa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ersonalise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up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my class there was too much emphasis on writing and not enough on listening and speaking, especially speaking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ack of variety doesn’t help.  I find that quite a barrier, the fact that the class always starts in the same way means that I switch off mentally – oh no, no that again.  Generally I am someone who needs variet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I can remember is how to order one cup of coffee with sugar in it, and I don’t even take sugar!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posure to ‘comprehensible input’ (after Krashen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ers must be able to mak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ome kind of sens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f what they are reading/hear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difficul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be able to make sen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 listening text/reading text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oo eas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, learners will not learn anything new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ies for ‘language use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need to us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nguage to d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ings, for example, chat, negotiate, discuss, exchange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should be given opportunities fo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led pract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grammar, vocabulary, phonology, discourse)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e practi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rasshouse students speak out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eacher would do most of the talking and when we needed to practise something she would go round the whole group one person at a time.  If there was a dialogue, she would take one part and the students would take another part…the whole thing would take about twenty minutes and you would only get your three minutes of glory.  I found that quite boring.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 these terms me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ceive instru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 the form, meaning and use of language,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ing and analy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me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king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04-18T10:07:4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  <property fmtid="{D5CDD505-2E9C-101B-9397-08002B2CF9AE}" pid="3" name="_AdHocReviewCycleID">
    <vt:r8>1502425686</vt:r8>
  </property>
  <property fmtid="{D5CDD505-2E9C-101B-9397-08002B2CF9AE}" pid="4" name="_AuthorEmail">
    <vt:lpwstr>f.m.copland@aston.ac.uk</vt:lpwstr>
  </property>
  <property fmtid="{D5CDD505-2E9C-101B-9397-08002B2CF9AE}" pid="5" name="_AuthorEmailDisplayName">
    <vt:lpwstr>Copland, Fiona</vt:lpwstr>
  </property>
  <property fmtid="{D5CDD505-2E9C-101B-9397-08002B2CF9AE}" pid="6" name="_EmailSubject">
    <vt:lpwstr>Two more?</vt:lpwstr>
  </property>
  <property fmtid="{D5CDD505-2E9C-101B-9397-08002B2CF9AE}" pid="7" name="_NewReviewCycle">
    <vt:lpwstr/>
  </property>
</Properties>
</file>