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C5060-0AFF-4ADB-B82F-C3794CAF9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924D1-ACE4-4952-9608-F6CA17BDA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831F6-3E76-4EA9-AF1B-C603FED00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D756B-7315-478A-90DE-C5AD63254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68773-6741-4AE7-98B5-33E94F60B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6E9EA-CBD2-41D7-9763-2C1C071E2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2D3D6-6FEB-4EC7-8072-0DF5AB603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68284-674B-43E1-B713-76A1CE0C6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0ACB8-C148-4B31-AB64-1A9E6F4DA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405D6-CC63-47D5-88B0-F7D19E54D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4B0C3-1F74-46F4-9021-2D9F54F05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1105E-E860-4ABF-9B2E-41D23A6F5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E2D42-ECB3-462E-8FC5-9BCD295C8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33D6B-65D2-4499-A6C4-8BE9888CC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181F4-4D7F-491B-92D8-4677607B3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3B768-07A3-43C1-A6DF-DA1FDE718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288EF-B48A-4E27-BE95-E946763FF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96DBD-46F3-4BB0-ADF0-305149341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BCBD9-6C73-48B1-8EC3-AABB98D24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342B7-17DE-4316-9D16-89969B6E3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71AF9-06AC-46AE-A31E-AD1B7DCB9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8C661-686C-4D4D-BF0E-C81F5AE45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0F874-7C23-4F50-B92A-CD14A5436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11A2B-65B4-477E-9DAD-FFECF9F4F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E3ACE-47FE-4465-BE0A-10003F302FE7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80532-B8F3-426C-ABAA-2AA4FA3454DE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Approaches to Teaching and Learning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Discourse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Lexical Relation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191120" y="3429000"/>
            <a:ext cx="0" cy="3808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505320" y="3886200"/>
            <a:ext cx="1447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urniture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4191120" y="4419360"/>
            <a:ext cx="0" cy="2286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124080" y="4876920"/>
            <a:ext cx="243864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048120" y="4952880"/>
            <a:ext cx="0" cy="53352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191120" y="4952880"/>
            <a:ext cx="0" cy="4572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4952880"/>
            <a:ext cx="0" cy="60984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0" y="55627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886200" y="56386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chai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181480" y="556272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desk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poken Discourse Analysi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28120" indent="-52812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Openings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Hi/hell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28120" indent="-52812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Taking a turn: Yes, but.. ;surely…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28120" indent="-52812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Holding a turn: er; um; anyway; you know;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28120" indent="-52812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Passing a turn: what do you think; isn’t it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28120" indent="-52812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Closing:  Right; Well, anyway; Okay then.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28120" indent="-52812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Pre-sequence: listen, did I tell you about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28120" indent="-52812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Repair:  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666699"/>
                </a:solidFill>
                <a:latin typeface="Arial"/>
              </a:rPr>
              <a:t>self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: 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What I really meant was.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         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666699"/>
                </a:solidFill>
                <a:latin typeface="Arial"/>
              </a:rPr>
              <a:t>others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:  Sorry, I don’t get what you mean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28120" indent="-52812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Upshot: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self: 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What I’m getting at is…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other: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What are you getting at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       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iscourse Intona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In spoken text, what are the following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Schw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Elis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Assimila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Intrus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mmon Question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990360" y="2361960"/>
            <a:ext cx="769284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Q: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at is discourse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: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 text, spoken or written, which consists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f more than one claus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Q: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at is discourse analysis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: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‘The description of language above the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ntence’.  (McCarthy, 1991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ntinue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Q: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at is </a:t>
            </a:r>
            <a:r>
              <a:rPr b="0" lang="en-US" sz="2800" spc="-1" strike="noStrike">
                <a:solidFill>
                  <a:srgbClr val="666699"/>
                </a:solidFill>
                <a:latin typeface="Arial"/>
              </a:rPr>
              <a:t>coherenc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: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‘Coherence is something created by the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eader in the act of reading the text. 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herence is the feeling that the text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angs together, that it makes sense, that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t is not just a jumble of sentences’. (ibid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Q: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at is </a:t>
            </a:r>
            <a:r>
              <a:rPr b="0" lang="en-US" sz="2800" spc="-1" strike="noStrike">
                <a:solidFill>
                  <a:srgbClr val="666699"/>
                </a:solidFill>
                <a:latin typeface="Arial"/>
              </a:rPr>
              <a:t>cohesion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: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ow the links are made between clauses. 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re are two ‘technical’ types: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rammatical and lexical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Grammatical Coherenc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Reference: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anaphoric; cataphoric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66"/>
                </a:solidFill>
                <a:latin typeface="Arial"/>
              </a:rPr>
              <a:t>The dog 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jumped at</a:t>
            </a:r>
            <a:r>
              <a:rPr b="0" lang="en-GB" sz="28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666699"/>
                </a:solidFill>
                <a:latin typeface="Arial"/>
              </a:rPr>
              <a:t>the man</a:t>
            </a:r>
            <a:r>
              <a:rPr b="0" lang="en-GB" sz="2800" spc="-1" strike="noStrike">
                <a:solidFill>
                  <a:srgbClr val="006666"/>
                </a:solidFill>
                <a:latin typeface="Arial"/>
              </a:rPr>
              <a:t>.  It 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bit</a:t>
            </a:r>
            <a:r>
              <a:rPr b="0" lang="en-GB" sz="28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666699"/>
                </a:solidFill>
                <a:latin typeface="Arial"/>
              </a:rPr>
              <a:t>him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6699"/>
                </a:solidFill>
                <a:latin typeface="Arial"/>
              </a:rPr>
              <a:t>They 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crowed round the sweet seller: </a:t>
            </a:r>
            <a:r>
              <a:rPr b="0" lang="en-GB" sz="2800" spc="-1" strike="noStrike">
                <a:solidFill>
                  <a:srgbClr val="666699"/>
                </a:solidFill>
                <a:latin typeface="Arial"/>
              </a:rPr>
              <a:t>John, Paul, Simon and Fred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" dur="20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" dur="20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eferenc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99"/>
                </a:solidFill>
                <a:latin typeface="Arial"/>
              </a:rPr>
              <a:t>Substitution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ominal; verbal; clausa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Which is which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1.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e said he would take early retirement and he has too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o you like the blue shoes or the red ones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You won the competition!  That’s great!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eferenc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llipsis: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ominal; verbal; clausa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Which is which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o you like Fred? Ye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first lecture lasted an hour; the second was over in 20 minute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as she remarried?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o but she will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eferenc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njunction: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dditive; adversative; causal;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empora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Which is which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nd/also/furthermor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ecause/therefor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n/next/after that/ finall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owever/although/despit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Lexical Cohes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Two types: 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repetition and collocation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(Halliday and Hasan, 1976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McCarthy (91) identifies three types of repetition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Direct repetition (A dog, the dog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Synonomy (A dog, the boxer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Antonomy. (The war; the peace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Lexical Relation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                           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General Wor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Superordinat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648320" y="3429000"/>
            <a:ext cx="0" cy="2286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3886200"/>
            <a:ext cx="380988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743200" y="3962520"/>
            <a:ext cx="0" cy="7596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819520" y="3886200"/>
            <a:ext cx="0" cy="2286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648320" y="3962520"/>
            <a:ext cx="0" cy="30456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629400" y="3886200"/>
            <a:ext cx="0" cy="7632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362320" y="449568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hyponym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114800" y="44956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hyponym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248520" y="44956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hyponym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2819520"/>
            <a:ext cx="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sainstall</cp:lastModifiedBy>
  <dcterms:modified xsi:type="dcterms:W3CDTF">2007-11-22T12:53:48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