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992-43F9-4EFD-A20A-A3AC918D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F06-C022-4E74-A8F1-5A035197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222-4F39-4CB0-982D-F7CCAF97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A3F-9BEA-4FB2-8BFD-9E80F83E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FB1A-DFB3-4B4A-B18E-53631BE6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B7DD-D634-4366-843D-B444C5E5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344D-C077-4F6B-BA52-66DA4471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5AC4-B07A-426B-BD2C-8DA3326E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85A1-7264-4F66-83BF-E7D4F454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05B6-577B-45D5-A619-E22BCE87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266A-7AF8-4698-B9AD-CAAF6FFE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8395-5069-4AD1-A3A2-28B8406B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FD75-8FE8-4577-8495-C35E7266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DD6D-ABDA-4B41-B49E-47653FD2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776E-1B10-45AD-9320-F996814E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98B3-2E8F-409C-9CF3-FEA88F47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B29E-5529-4E3D-AFCB-CCCBF116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5B48-4512-4A1E-8DF6-770E2E21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B488-7E28-46E9-A7A2-6544A399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0151-CBEE-4CBA-B48C-3463B061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158-A4BB-43BB-92BA-64EA8AAE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F4E-45C9-403A-A369-35D6FF9C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784-9ABB-448A-B9A2-B2BF89B3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B427-CB91-4804-9D21-6D6AAB61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98D0-44B2-45AD-AA20-EC3B9A703C5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BA66-6CAA-4723-A645-7EA865A59F5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eaching Practice 2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ditions for Language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2667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SSENTIA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pos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895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72000" y="251496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2438280"/>
            <a:ext cx="30481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SIRAB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52578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From Willis J.  1997. A Framework for TBL. Longm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id you learn English?  Which was dominant for you: exposure, use, motivation or instruc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agree that these are the conditions for language learning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what extent do you think instruction is essentia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s with TB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icip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we learn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iring and grou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r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thinking on tas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 and soft ver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prefer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-modern pedago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staff</cp:lastModifiedBy>
  <dcterms:modified xsi:type="dcterms:W3CDTF">2009-12-08T15:34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