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E59-55C6-4232-8C31-2A5CDCAA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D2F-4799-49B2-ACA1-85EABB23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A61-6AC6-4E85-8A01-2FA6E9CF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08F-DFFE-4A09-8DF1-E9AD389E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FD43-A28D-4473-82B2-12363BF0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24B6-CB3C-4DE9-85B5-0ED28B69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74FC-7DE1-4ABD-AA64-22B9E7F0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E1BA-25B2-40D8-87EE-C780467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570-A11A-45A2-8C26-8CE765E5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12F0-FEB5-4CF8-B98B-5B4D1602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B2C5-8FE5-4837-8E08-592956C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9DC-B3D7-47FA-92B6-E9FD6D9D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CF8D-BA3B-40F9-9936-2CCB4B7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3DEC-0EFC-4ECD-AA3D-0147D41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B7CF-32A1-4B2E-B019-FA0EA117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34B9-CCBB-42AF-B9B5-B248215A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30A-DF96-4F04-8867-AC4AB96D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F1D-89B1-4080-A90C-553D04F0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9A4-09F4-4EB0-B558-521869FF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5E7-7D15-45E2-A471-D66FD36C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83A-F24B-4328-8343-AB03FDA4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987-0658-4488-ACC2-797419B9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710-0941-49C1-B4C1-371C6A1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004-B08D-47D3-8596-088CF30E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A3F-2687-4809-A270-7648D53E8B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6FE1-94D0-416C-9C43-7C0216A46E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and Teaching Languages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 (another language)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 learners from the start (praise, make activities achievable, warm up class, create good atmosphere, respond to learners as peop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learners to have a strong self-image of themselves as successful language learners with goals and strateg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urces of input for learn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ublicity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pes/CDs/DV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!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2578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tories with visual aids, repetition, eye contact, stress and into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involved in the sto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grade language effe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can talk too mu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et boring if done repeate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find ways to make listening interesting (funny story, puzzle, personal interes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/CD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- stage appro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has been d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s exactly what has been s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learners opportunity to hear other voices/acc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context – teacher has to prov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mbodied’: no ‘human’ interaction between tape and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stop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does not respond to learners’ immediate difficul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c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each other (this is valuable!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the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session, participants will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knowledge and understanding of how people learn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d these principles to classroom learning and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ed their own practice in light of these princi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mistak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takes are natural and are evidence of learn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ule of thumb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ct mistakes in controlled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correct in free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 note of mistakes and correct these as a class (e.g. ‘I heard someone say…….Is this correct?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own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do you do most of in your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mprehensible in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opportunities for out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for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SSENTIA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SIRABL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om Willis J. (1996)  A Framework for Task-based Learning.  London: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mus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nt to lea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otivation). S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work with learners’ natural motivation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give learners the opportunities to see themselves as successfu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find out what learners w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ersonalise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u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y class there was too much emphasis on writing and not enough on listening and speaking, especially speaking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, the fact that the class always starts in the same way means that I switch off mentally – oh no, no that again.  Generally I am someone who needs variet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I can remember is how to order one cup of coffee with sugar in it, and I don’t even take sugar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osure to ‘comprehensible input’ (after Krashen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ers must be able to mak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ome kind of sens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 what they are reading/he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difficul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be able to make sen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eas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learn anything n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ies for ‘language use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need to us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guage to 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, for example, chat, negotiate, discuss, exchange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should be given opportunities f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led pract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grammar, vocabulary, phonology, discourse)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e pract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ou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 she would go round the whole group one person at a time.  If there was a dialogue, she would take one part and the students would take another part…the whole thing would take about twenty minutes and you would only get your three minutes of glory.  I found that quite boring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ive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rm, meaning and use of language,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nd analy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m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ing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04-18T10:07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502425686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