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E81-6E7B-42E2-9278-8A487DED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7523-3A72-43F0-9201-FACA5A4F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A6A-7565-4D03-9E91-CBE9DD2C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48A4-8807-47E5-BF6B-D251200C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4AE0-AC36-4F55-8D26-1167B87D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572B-6419-4E29-AE69-E2154934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647E-87CB-41B1-BBE6-1819D284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593E-6332-4F1B-BD7F-6B951498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1534-9E3E-4F29-B10D-AE80C930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A1F3-830F-4D61-A311-9A2BF159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AE16-1F72-4451-A04D-E99FED28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FC94-9265-4550-8ECC-855D179C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7EF6-E1CA-49E9-82E8-9F98343A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8679-59E7-4C97-BCB1-6E84897E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2407-28B0-4F73-9F27-04425C00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DB00-0099-4044-A106-51B83A07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38C9-0DB3-4520-8E99-D9F55AED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9D7B-7985-4B00-9E4C-0FA5A651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DCE-50B1-4988-9BFD-C72A7BE2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EA5-5E68-435F-981E-4C7B7B86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E5C-A25D-43B7-BF25-1EB47975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90BE-40A8-49A7-A103-F7CFC765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746-5650-42C3-8EA8-4FA25F90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35E-21F5-4DC5-9B16-6F2C4550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CE7E-1E30-4EFA-A8DB-8A9547715E7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729C-38FE-49F5-9313-16E299BBDA8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fferentiation: a workshop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ona Coplan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f.m.copland@aston.ac.uk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on and learning pre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lack of variety doesn’t help.  I find that quite a barrier.  The fact that the class always starts in the same way means I switch off mentally – oh no, not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tha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again! Generally I am someone who needs a lot of variety.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lara, student at Brassho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48520" y="4648320"/>
            <a:ext cx="1288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 kinds of learning preference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ual, aural, kinaesthe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ytical/holis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ole class/group/pair/individ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insically motivated/extrinsically motiva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Your pract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o you use differentiated questioning in your practice? Please explain your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o you use other kinds of differentia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Outco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icipants will develop knowledge and understanding of the concept of different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rticipants will apply this knowledge and understanding to developing resour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rticipants will share their differentiation practi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tion: a defin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fferentiation is adopting different strategies that ensure success in learning for all, by accommodating individual differences of any kind.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tty G. (2004)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eaching Toda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Cheltenham/Nelson Thor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hen can we differentiate according to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utside interests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Show and te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rgeted language for particular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one student a week?)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 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can we differentiate according to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ducational backgroun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hare educational experien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 What students like/don’t like about lear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  Cater for students who have formal    understanding of language/don’t have formal understanding of langua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tion according to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lev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watch the talk and complete the worksheet by adding verbs in the impera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write in the words from c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fill in the words independent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ng according to level – key facto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extension tasks for those students who finish quick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sure that the first questions/activities are easily completed by all stud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use of questioning.  Are your questions meant to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halleng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to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stil confide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ich is the most difficult question to answer?  Put in order, simplest first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you ma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124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39625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difference between a scone and a bisc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029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ngredients do you need to ma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on and learning pre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teacher would do most of the talking and when we needed to practise something, she would go round the whole group one person at a time.  If there was a dialogue, she would take the other part….The whole thing would take about twenty minutes and you only got your 3 minutes of glory.  I found that quite boring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hoebe, student at Brassho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553080" y="5105520"/>
            <a:ext cx="183060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7-11-23T10:55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-5262230</vt:r8>
  </property>
  <property fmtid="{D5CDD505-2E9C-101B-9397-08002B2CF9AE}" pid="4" name="_AuthorEmail">
    <vt:lpwstr>f.m.copland@aston.ac.uk</vt:lpwstr>
  </property>
  <property fmtid="{D5CDD505-2E9C-101B-9397-08002B2CF9AE}" pid="5" name="_AuthorEmailDisplayName">
    <vt:lpwstr>Copland, Fiona</vt:lpwstr>
  </property>
  <property fmtid="{D5CDD505-2E9C-101B-9397-08002B2CF9AE}" pid="6" name="_EmailSubject">
    <vt:lpwstr>Two more?</vt:lpwstr>
  </property>
  <property fmtid="{D5CDD505-2E9C-101B-9397-08002B2CF9AE}" pid="7" name="_NewReviewCycle">
    <vt:lpwstr/>
  </property>
</Properties>
</file>