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B4B-F9E7-4919-8CA3-C8D03F51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2E64-3459-49EB-B929-FFAD504B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F1A-03DF-43D8-BFA8-A8B6A370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AC8-B53E-4D43-849E-684DA647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7215-9230-48AD-AFAE-3D2DE50F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EB0A-4DED-413E-90E2-C0FB3BE2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B9F6-BFFE-4CB1-BE4E-3B98B451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208B-77A6-4C85-8EFF-FA8C60DB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1388-686F-40B4-9138-7FDCA7EF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7690-5CC4-4728-829D-39503480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EBBA-D044-4B3E-945B-E5FA4B38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C91-0085-41C1-B027-8EDA6466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2105-964D-45A1-A954-D8E0D61E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3A19-3462-41C8-B0C6-F4670334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B492-96D3-4E21-99A5-37AB52FE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37FF-FD59-46AD-804C-AB54EA8D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75C4-C0ED-4583-952B-9C95B003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11CB-0D35-4803-9D51-07A63233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1750-5478-49D6-9B0A-980AC19F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4FD-A27A-48A1-B015-F649BFA1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47D-47E5-486F-86A9-E60DA699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F5C-7076-4799-9BAF-7B9FA821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A6E-81FA-4F57-B796-E62DCC91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647-A98C-4A23-88CE-C895A364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EE34-9FD9-477D-978D-A3B0814532C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9AA7-BECC-498A-B3F8-FFE6C3A984C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iscours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Re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4290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38862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rniture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191120" y="441936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487692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95288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9528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4952880"/>
            <a:ext cx="0" cy="609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5562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ai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oken Discourse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pening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/hel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aking a turn: Yes, but.. ;surely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lding a turn: er; um; anyway; you know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assing a turn: what do you think; isn’t i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losing:  Right; Well, anyway; Okay then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e-sequence: listen, did I tell you abou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pair: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self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 really meant was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other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 Sorry, I don’t get what you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psho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lf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’m getting at is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th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are you getting a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urse Inton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spoken text, what are the follow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ch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l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ssimi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r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discour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ext, spoken or written, which consis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more than one cla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discourse analys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The description of language above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tence’.  (McCarthy, 199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oher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Coherence is something created by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er in the act of reading the text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herence is the feeling that the tex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gs together, that it makes sense, tha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not just a jumble of sentences’. (ibi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ohes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the links are made between clauses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are two ‘technical’ types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mmatical and lexic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mmatical Coh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ference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aphoric; cataphor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The dog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jumped at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the man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.  It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t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hi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They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rowed round the sweet seller: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John, Paul, Simon and F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ubstitu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minal; verbal; clau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said he would take early retirement and he has to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the blue shoes or the red 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won the competition!  That’s grea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lipsi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minal; verbal; clau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Fred? Y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rst lecture lasted an hour; the second was over in 20 minu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she remarried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but she wi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junc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itive; adversative; causal;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mpo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/also/furtherm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/theref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n/next/after that/ fin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/although/desp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Cohe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wo types: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petition and colloc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Halliday and Hasan, 197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cCarthy (91) identifies three types of repetitio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rect repetition (A dog, the do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ynonomy (A dog, the box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tonomy. (The war; the pea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Re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eneral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perordin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4290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886200"/>
            <a:ext cx="3809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396252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38862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9625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3886200"/>
            <a:ext cx="0" cy="76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495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4495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2819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install</cp:lastModifiedBy>
  <dcterms:modified xsi:type="dcterms:W3CDTF">2007-11-22T12:53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