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D37-213A-4943-821B-05BF4DC1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B05B-952F-49C7-A0C8-13DEC944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509-D93A-4A65-9421-C8638721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20DE-EDB6-4DC7-815D-8D9F239E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B38A-CD7F-4435-B051-7CD451DF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94D3-5ED6-4432-AC22-AE163F36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CF17-37E1-4643-BA6B-402EE61B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D87D-8AB5-4CBC-B3A4-67F3046D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FDE2-BBA1-44B3-A755-5092F058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C47A-47C2-416B-BDF6-85FDE478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BA57-605F-40C9-9AA5-6CBDD094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CF8E-A101-4B20-948D-330BE418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2A7A-1C33-42EF-A95F-4A84DDB0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A6C2-032F-41BF-9BB8-5CE3E1E5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6E21-E43E-4062-B25B-BF5C9489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F4DC-F545-4ADA-A24D-CEB4F66A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671F-1EDB-4A09-AD9E-893FA89C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CB4E-AAA0-47A2-9DC9-B853F106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43D-943D-45F8-941F-BF06F64E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0FF1-B2FE-4DBD-A54A-F7CE8BAD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C132-46EC-4868-B9BF-AE7D0D98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1E0-9F54-4529-90DE-5213D043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ED29-BDD7-4BEF-BC16-F77BE036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ECEB-3C33-4028-AF2D-E0A7FE85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ECFA-080A-4C56-861F-BF2563355D9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A5A7-DC57-435C-A760-BAF69B7F887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and Teaching Languages 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ona Coplan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id you learn English (another language)?  Which was dominant for you: exposure, use, motivation or instruc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agree that these are the conditions for language learning?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what extent do you think instruction is essentia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tiv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tivate learners from the start (praise, make activities achievable, warm up class, create good atmosphere, respond to learners as people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courage learners to have a strong self-image of themselves as successful language learners with goals and strateg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rehensible Inp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ources of input for learne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urseboo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erne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wspap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ublicity materi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pes/CDs/DV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OU!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525780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1584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1625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teacher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port stories with visual aids, repetition, eye contact, stress and inton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medi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 prepa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involved in the stor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acher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d to grade language effective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can talk too mu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get boring if done repeated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d to find ways to make listening interesting (funny story, puzzle, personal interes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e/CD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- stage approac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-list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le-list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-list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e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has been d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eats exactly what has been sa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tivities avail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ropriat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s learners opportunity to hear other voices/acc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e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context – teacher has to provi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mbodied’: no ‘human’ interaction between tape and stu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icult to stop and repe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does not respond to learners’ immediate difficult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rehensible Outp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ca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ak to each other (this is valuable!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ak to the teac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Outcom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the end of the session, participants will hav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ed knowledge and understanding of how people learn langu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ied these principles to classroom learning and teac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idered their own practice in light of these princip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bout mistak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stakes are natural and are evidence of learning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Rule of thumb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rrect mistakes in controlled prac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correct in free prac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a note of mistakes and correct these as a class (e.g. ‘I heard someone say…….Is this correct?’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y own practic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do you do most of in your clas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tiva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comprehensible inpu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opportunities for outpu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cus on for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ditions for Language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2667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SSENTIAL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posu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28954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572000" y="251496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2438280"/>
            <a:ext cx="304812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DESIRABL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5257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rom Willis J. (1996)  A Framework for Task-based Learning.  London: Longm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must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ant to lear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motivation). S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work with learners’ natural motivation to lear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give learners the opportunities to see themselves as successfu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find out what learners wa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personalise learn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rasshouse students speak up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my class there was too much emphasis on writing and not enough on listening and speaking, especially speaking!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lack of variety doesn’t help.  I find that quite a barrier, the fact that the class always starts in the same way means that I switch off mentally – oh no, no that again.  Generally I am someone who needs variety.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I can remember is how to order one cup of coffee with sugar in it, and I don’t even take sugar!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posure to ‘comprehensible input’ (after Krashen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earners must be able to make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some kind of sense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of what they are reading/hear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f the listening text/reading text is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too difficul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, learners will not be able to make sen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f the listening text/reading text is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too easy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, learners will not learn anything n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portunities for ‘language use’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need to us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anguage to d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ings, for example, chat, negotiate, discuss, exchange inform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should be given opportunities fo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trolled practi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grammar, vocabulary, phonology, discourse) an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ree practi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rasshouse students speak out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teacher would do most of the talking and when we needed to practise something she would go round the whole group one person at a time.  If there was a dialogue, she would take one part and the students would take another part…the whole thing would take about twenty minutes and you would only get your three minutes of glory.  I found that quite boring.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ceive instru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the form, meaning and use of language, throug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actis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ing and analy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erime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ing ques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04-18T10:07:4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1502425686</vt:r8>
  </property>
  <property fmtid="{D5CDD505-2E9C-101B-9397-08002B2CF9AE}" pid="4" name="_AuthorEmail">
    <vt:lpwstr>f.m.copland@aston.ac.uk</vt:lpwstr>
  </property>
  <property fmtid="{D5CDD505-2E9C-101B-9397-08002B2CF9AE}" pid="5" name="_AuthorEmailDisplayName">
    <vt:lpwstr>Copland, Fiona</vt:lpwstr>
  </property>
  <property fmtid="{D5CDD505-2E9C-101B-9397-08002B2CF9AE}" pid="6" name="_EmailSubject">
    <vt:lpwstr>Two more?</vt:lpwstr>
  </property>
  <property fmtid="{D5CDD505-2E9C-101B-9397-08002B2CF9AE}" pid="7" name="_NewReviewCycle">
    <vt:lpwstr/>
  </property>
</Properties>
</file>