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55E-3092-4534-B079-5EDE4BA8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877-5BE3-4DE8-AE3F-376D0ABC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1B7-B607-4C4D-9846-1737C3C5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702-964B-4C06-86AF-66649840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1E2A-7509-4472-A3AB-B9EEA8F2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2EEA-44F5-4236-8C5F-5B12006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93D3-8347-4900-95CC-832ADAA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27F6-897F-401E-A431-BAB37E6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25CA-2307-494E-9AD9-CD1BA4C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774D-9C49-402D-B0BF-E6CFE20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3DDC-8904-4570-8A16-71B3834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053-5C3B-4DE5-AA17-4CA8EEE0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15A0-826D-48B3-BEB9-F130860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7C85-B3B4-44F5-8075-38790EC6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04E7-CE01-4D09-80A8-0D561F14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A75B-FA87-4A17-A98F-C55C6865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4F28-8918-4AFE-BCF7-C4D140CD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DD7-435D-4ACE-90D6-5CD1FA0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04E-F36D-4B0D-BCC7-64D7A0A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D69-A86D-4508-AD23-811AA399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0A6-335C-4230-8DDC-419FA8B9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6F6-7DC7-411A-A3DE-FC569B2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311-FAEB-4C5E-9665-2FF3768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9D4-6285-451B-8E14-3A789D8E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C85A-97B8-4237-9960-15960B258E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AA23-EDB2-420B-8406-756FE6BDA8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fferentiation: a worksho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.m.copland@aston.ac.uk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.  The fact that the class always starts in the same way means I switch off mentally – oh no, no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h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gain! Generally I am someone who needs a lot of variety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lara, student at Brassh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 kinds of learning pre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, aural, kinaesthe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tical/holi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le class/group/pair/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insically motivated/extrinsically motiv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differentiated questioning in your practice? Please explain your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other kinds of differenti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will develop knowledge and understanding of the concept of different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apply this knowledge and understanding to developing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share their differentiation pract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: a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fferentiation is adopting different strategies that ensure success in learning for all, by accommodating individual differences of any kind.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tty G. (2004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eaching Toda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Cheltenham/Nelson Thor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n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tside interest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how and t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language for particula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one student a week?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backgrou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are educational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What students like/don’t like about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Cater for students who have formal    understanding of language/don’t have formal understanding of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 according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atch the talk and complete the worksheet by adding verbs in the imper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rite in the words from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fill in the words independent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ng according to level – key fa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extension tasks for those students who finish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that the first questions/activities are easily completed by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use of questioning.  Are your questions meant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llen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stil confid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is the most difficult question to answer?  Put in order, simplest fir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962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a scone and a bisc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029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ngredients do you need to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, she would go round the whole group one person at a time.  If there was a dialogue, she would take the other part….The whole thing would take about twenty minutes and you only got your 3 minutes of glory.  I found that quite bor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hoebe, student at Brassh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830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7-11-23T10:5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5262230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