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DC1B-1ECE-4DC9-A494-8920E0659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CABC-ABC4-49ED-A04A-C63B97124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FBF4-DCA7-4230-8AD7-9A77E8660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3241-F4D4-45C7-8426-6A5F53837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D0A1F-F4CA-49EA-8FD4-90775EA3F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BD6E5-2329-4FE5-9561-FF621204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DCB6A-3F3E-4930-AFB3-F87973D0E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BF865-008E-4D4E-85DF-6EE1D1E23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88158-DCA9-4B45-8EB2-A3C6F0FD4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CFD4E-65DE-4CD1-9F77-BDB41D24C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5E6BF-802B-47A7-BCA2-0DF6C991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BD4D-EEFB-42FB-8945-D5FACAF4E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21572-1E5D-4526-9EEB-CF55D6CA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4004F-9D43-49AB-BF60-C5007620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CED16-4F19-405D-B976-3390A8958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BA2A3-9D4A-4DD9-B7E5-2375E9514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A20E0-3397-4635-A65F-589A49A20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74BD-A444-4288-8B95-8526B537F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A2D6-D035-4C6B-8A08-850C30022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4293-9EF9-4E13-B608-202F6C80F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C58E-CF43-466D-9134-446BC1B5A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60FC-1986-4E77-9FC2-9AA7E052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F48E-AE2C-4A24-A610-375ABC37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B71C-7B5B-496F-A2A4-E3B4E8F8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5E225-DE6E-43D6-874F-223E142093A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54D70-21E0-4C62-AC3D-79074491A92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Approaches to Teaching and Learning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Discourse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xical Rela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91120" y="3429000"/>
            <a:ext cx="0" cy="3808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505320" y="388620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urniture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191120" y="4419360"/>
            <a:ext cx="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4876920"/>
            <a:ext cx="2438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8120" y="4952880"/>
            <a:ext cx="0" cy="5335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191120" y="495288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4952880"/>
            <a:ext cx="0" cy="6098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0" y="5562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86200" y="5638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hai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81480" y="55627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s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poken Discourse Analysi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Openings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Hi/hell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Taking a turn: Yes, but.. ;surely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Holding a turn: er; um; anyway; you know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Passing a turn: what do you think; isn’t it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Closing:  Right; Well, anyway; Okay then.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Pre-sequence: listen, did I tell you about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Repair:  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666699"/>
                </a:solidFill>
                <a:latin typeface="Arial"/>
              </a:rPr>
              <a:t>self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What I really meant was.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666699"/>
                </a:solidFill>
                <a:latin typeface="Arial"/>
              </a:rPr>
              <a:t>others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:  Sorry, I don’t get what you mea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Upshot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self: 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What I’m getting at is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other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What are you getting at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scourse Inton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n spoken text, what are the following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chw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li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ssimil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ntru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mon Ques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990360" y="236196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s discours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text, spoken or written, which consists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f more than one claus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s discourse analysi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‘The description of language above th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ntence’.  (McCarthy, 1991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inue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s </a:t>
            </a:r>
            <a:r>
              <a:rPr b="0" lang="en-US" sz="2800" spc="-1" strike="noStrike">
                <a:solidFill>
                  <a:srgbClr val="666699"/>
                </a:solidFill>
                <a:latin typeface="Arial"/>
              </a:rPr>
              <a:t>coherenc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‘Coherence is something created by th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ader in the act of reading the text.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herence is the feeling that the text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ngs together, that it makes sense, that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t is not just a jumble of sentences’. (ibid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s </a:t>
            </a:r>
            <a:r>
              <a:rPr b="0" lang="en-US" sz="2800" spc="-1" strike="noStrike">
                <a:solidFill>
                  <a:srgbClr val="666699"/>
                </a:solidFill>
                <a:latin typeface="Arial"/>
              </a:rPr>
              <a:t>cohes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the links are made between clauses.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re are two ‘technical’ types: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ammatical and lexica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ammatical Cohere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Reference: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naphoric; cataphori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Arial"/>
              </a:rPr>
              <a:t>The dog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jumped at</a:t>
            </a:r>
            <a:r>
              <a:rPr b="0" lang="en-GB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666699"/>
                </a:solidFill>
                <a:latin typeface="Arial"/>
              </a:rPr>
              <a:t>the man</a:t>
            </a:r>
            <a:r>
              <a:rPr b="0" lang="en-GB" sz="2800" spc="-1" strike="noStrike">
                <a:solidFill>
                  <a:srgbClr val="006666"/>
                </a:solidFill>
                <a:latin typeface="Arial"/>
              </a:rPr>
              <a:t>.  It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bit</a:t>
            </a:r>
            <a:r>
              <a:rPr b="0" lang="en-GB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666699"/>
                </a:solidFill>
                <a:latin typeface="Arial"/>
              </a:rPr>
              <a:t>hi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99"/>
                </a:solidFill>
                <a:latin typeface="Arial"/>
              </a:rPr>
              <a:t>They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rowed round the sweet seller: </a:t>
            </a:r>
            <a:r>
              <a:rPr b="0" lang="en-GB" sz="2800" spc="-1" strike="noStrike">
                <a:solidFill>
                  <a:srgbClr val="666699"/>
                </a:solidFill>
                <a:latin typeface="Arial"/>
              </a:rPr>
              <a:t>John, Paul, Simon and Fr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fere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Arial"/>
              </a:rPr>
              <a:t>Substitut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minal; verbal; claus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Which is which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 said he would take early retirement and he has to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 you like the blue shoes or the red on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won the competition!  That’s great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fere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lipsis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minal; verbal; claus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Which is which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 you like Fred? Y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first lecture lasted an hour; the second was over in 20 minut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s she remarried?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 but she wil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fere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junction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ditive; adversative; causal;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mpor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Which is which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d/also/furthermo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cause/therefo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n/next/after that/ final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ever/although/despi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xical Cohe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wo types: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repetition and collocatio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(Halliday and Hasan, 1976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cCarthy (91) identifies three types of repetition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irect repetition (A dog, the dog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ynonomy (A dog, the boxer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ntonomy. (The war; the peac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xical Rela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                         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General Wor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Superordina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48320" y="3429000"/>
            <a:ext cx="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3886200"/>
            <a:ext cx="38098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43200" y="3962520"/>
            <a:ext cx="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19520" y="3886200"/>
            <a:ext cx="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48320" y="3962520"/>
            <a:ext cx="0" cy="3045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629400" y="3886200"/>
            <a:ext cx="0" cy="763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362320" y="44956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ypony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44956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ypony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248520" y="4495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ypony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28195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sainstall</cp:lastModifiedBy>
  <dcterms:modified xsi:type="dcterms:W3CDTF">2007-11-22T12:53:4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