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E10-0F49-4711-BEAC-3E839EFE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A67-D3BA-4C26-A0B1-C1792F2D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038-5E2A-45FF-9DC2-462F2EAF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DEE-F205-4C79-AFB6-3FDC2317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6769-F6F1-498E-ACBD-43185CAC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A731-3415-4217-87B9-04C172FB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2867-3F9B-4EC1-8E53-80E34290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A078-1372-4625-B336-F8132FE6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6067-16FF-4C38-8C4D-ADD2E504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22D2-6651-4BFE-8B08-49AA3B76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6832-449A-4513-BE47-BD20F93E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C3C-0628-452F-8B63-1C5EE7A9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0C3F-602B-4841-A76F-FA9FC425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36A1-AF30-4880-A1FB-7B8074AC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C259-C578-4705-B10B-328FA9F1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D443-8ED1-482D-800A-50B84B39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A8D1-ABF6-4361-95A2-05397CFB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C9E-87EF-4151-9F28-FDE7F9D5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48D-FE6D-4D28-BE29-14E91986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2A1-7524-4CE9-A735-03BC406D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507-8142-4629-AFE0-7512CEEE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77D-CDB3-4B98-9084-59D7E85E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44C-F86E-45DF-8EE8-399A5478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E31-7026-40B9-949E-71280788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2AEC-2A66-4813-A023-BB09D1B445F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2B11-E163-4F19-88AA-7302086C6F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eaching Practice 2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ditions for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SSENTI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os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895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72000" y="2514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2438280"/>
            <a:ext cx="30481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SIRAB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2578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From Willis J.  1997. A Framework for TBL. Long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id you learn English?  Which was dominant for you: exposure, use, motivation or instru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agree that these are the conditions for language learning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hat extent do you think instruction is essenti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s with TB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we learn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iring and grou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thinking on 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 and soft ver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pre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modern pedag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staff</cp:lastModifiedBy>
  <dcterms:modified xsi:type="dcterms:W3CDTF">2009-12-08T15:34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